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16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9.wmf" ContentType="image/x-wmf"/>
  <Override PartName="/ppt/media/image39.wmf" ContentType="image/x-wmf"/>
  <Override PartName="/ppt/media/image8.png" ContentType="image/png"/>
  <Override PartName="/ppt/media/image41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20C9-91A8-45DC-961B-F05195657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4444-52CF-43FE-8784-F5E323F33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A7F-A9E0-4FEA-A97F-A7EBC051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CF8-8BE4-42E0-9072-A86D42C5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F3B-29DF-4ACD-AA28-4EBAAAFB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E32-CB6C-4D07-8BED-FB0FE482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BDB0-54E9-43DB-AF6F-36FC6357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5FC0-0384-4D40-8708-A32F69BC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67E0-560A-4CDD-9FF1-E24BCEDA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46A8-62CF-44C5-B958-4DB4BA4C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73E9-89BE-4178-AF27-4CEF4AC7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66EA-9FB6-41CB-B581-B4BB1CD9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72CE-BDF1-40CF-A851-64B91942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4A9-6391-430B-BB4E-420EDC10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873A-57E0-4FD9-AB0C-5A765F40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5601-55CC-4D3E-B592-56C89176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BB03-0D00-4A2A-8F13-A4A27189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518F-C25F-4BDB-85E1-1131EA21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E3DD-94BD-4A29-B81D-53E8864C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6BD-83CE-4B49-85AA-CEB7FECB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E7B-F674-4110-8EE1-82EC0B3A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14E-8585-4E5B-8F48-C2A32664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BC8-FAC2-4594-BC9B-E0ABA068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C78-4C6D-4401-88F4-DE259A10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62D-1AB0-4F44-9E1D-0AEA62D1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8C9-8D40-4F6A-8C2C-DE291600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Freeform 11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Freeform 18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Freeform 25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Group 31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Freeform 32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08DA-490F-4A1D-9799-954786EAE84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BC19-9E84-4FDE-8F3F-90F75D2E7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Rectangle 3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4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5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6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7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9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0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Group 11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Freeform 12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13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8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Freeform 19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20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21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22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23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5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Freeform 26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28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9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30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31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196F-13DB-4375-8C8D-74B5908FDEF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82FE-4AE2-4588-8C4F-3B79A2833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6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0462-86ED-4287-B6D1-F6A7DB83D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hapter 5</a:t>
            </a:r>
            <a:br>
              <a:rPr sz="4400"/>
            </a:br>
            <a:br>
              <a:rPr sz="4400"/>
            </a:br>
            <a:r>
              <a:rPr b="1" i="1" lang="en-US" sz="4000" spc="-1" strike="noStrike">
                <a:solidFill>
                  <a:srgbClr val="000080"/>
                </a:solidFill>
                <a:latin typeface="Times New Roman"/>
              </a:rPr>
              <a:t>The Mathematics of Diversification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12"/>
          <p:cNvGraphicFramePr/>
          <p:nvPr/>
        </p:nvGraphicFramePr>
        <p:xfrm>
          <a:off x="6019920" y="3962520"/>
          <a:ext cx="166824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962520"/>
                    <a:ext cx="166824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BE02-DD2B-4EBF-AACC-65AE63EB9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e following statistics for Stock A and Stock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62120" y="3429000"/>
          <a:ext cx="7391160" cy="2835360"/>
        </p:xfrm>
        <a:graphic>
          <a:graphicData uri="http://schemas.openxmlformats.org/drawingml/2006/table">
            <a:tbl>
              <a:tblPr/>
              <a:tblGrid>
                <a:gridCol w="2971800"/>
                <a:gridCol w="1955520"/>
                <a:gridCol w="246384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cted re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dev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elation coeffic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E59C-57E7-4043-94C7-22D9BF435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expected return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2209680" y="3505320"/>
          <a:ext cx="48405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505320"/>
                    <a:ext cx="48405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421F-04DD-41F9-8B27-0FEAE1D1F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 (cont’d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variance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30"/>
          <p:cNvGraphicFramePr/>
          <p:nvPr/>
        </p:nvGraphicFramePr>
        <p:xfrm>
          <a:off x="533520" y="3809880"/>
          <a:ext cx="826776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826776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8E27-740D-41F1-B8B9-8132411D4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Portfolio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nimum variance portfolio is the particular combination of securities that will result in the least possibl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for the minimum variance portfolio requires basic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CC2E-389E-4DF8-91EA-DE685FC2F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minimum variance portfolio, the proportions invested in stocks A and B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2133720" y="3581280"/>
          <a:ext cx="452124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581280"/>
                    <a:ext cx="452124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DD95-F779-4256-ABB0-4AEFB612F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weights of the minimum variance portfolios in the previous case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5"/>
          <p:cNvGraphicFramePr/>
          <p:nvPr/>
        </p:nvGraphicFramePr>
        <p:xfrm>
          <a:off x="533520" y="3962520"/>
          <a:ext cx="815328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962520"/>
                    <a:ext cx="81532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8E8D-C065-4B69-A1D0-6F5D2AF21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5"/>
          <p:cNvGraphicFramePr/>
          <p:nvPr/>
        </p:nvGraphicFramePr>
        <p:xfrm>
          <a:off x="1600200" y="2362320"/>
          <a:ext cx="556272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62320"/>
                    <a:ext cx="556272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6"/>
          <p:cNvSpPr/>
          <p:nvPr/>
        </p:nvSpPr>
        <p:spPr>
          <a:xfrm flipH="1" rot="10800000">
            <a:off x="1069200" y="2895480"/>
            <a:ext cx="546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igh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427200" y="59436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rtfolio 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2133720" y="4114800"/>
            <a:ext cx="3200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5334120" y="4114800"/>
            <a:ext cx="0" cy="1371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F595-D1DF-47B0-9C7B-E649EAC3B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rrelation and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isk Re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folio risk decreases as the correlation coefficient in the returns of two securities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reduction is greatest when the securities are perfectly negatively cor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ecurities are perfectly positively correlated, there is no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F1A0-7A8D-4612-AEC8-0956BFFC5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1295280" y="3048120"/>
          <a:ext cx="661212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66121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7885-B7C4-443B-AF4E-9ACB7EA91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variance matr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abular presentation of the pairwise combinations of all portfolio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quired number of covariances to compute a portfolio variance is (n</a:t>
            </a:r>
            <a:r>
              <a:rPr b="0" lang="en-US" sz="28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n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ortfolio construction technique using the full covariance matrix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kowitz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CD71-14F5-4F28-A9E4-05E876AE2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son for portfolio theory mathemat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is a good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makes sense lo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EE15-55DE-46E6-86F9-56893853C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Example of Variance-Covariance Matrix Computation in Excel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76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4666-6E8F-4106-B445-285366C81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34B4-D2D4-4DC3-A676-48CF0B73B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4"/>
          <p:cNvSpPr/>
          <p:nvPr/>
        </p:nvSpPr>
        <p:spPr>
          <a:xfrm>
            <a:off x="0" y="-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2600" y="3687840"/>
          <a:ext cx="596880" cy="517320"/>
        </p:xfrm>
        <a:graphic>
          <a:graphicData uri="http://schemas.openxmlformats.org/drawingml/2006/table">
            <a:tbl>
              <a:tblPr/>
              <a:tblGrid>
                <a:gridCol w="5968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Picture 258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D082-8874-4A6C-89B7-6CC956EC6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Portfolio Mathematic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 as the (vertical) vector of weights on the different as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th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folio optimization consists of minimizing this variance subject to the constraint of achieving a given expected ret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2286000" y="4114800"/>
          <a:ext cx="175248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114800"/>
                    <a:ext cx="17524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5"/>
          <p:cNvGraphicFramePr/>
          <p:nvPr/>
        </p:nvGraphicFramePr>
        <p:xfrm>
          <a:off x="2133720" y="281952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81952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D847-674F-49C7-9FD4-B1B839345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Portfolio Variance in the 2-asset case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838080" y="5029200"/>
          <a:ext cx="426744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029200"/>
                    <a:ext cx="4267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4"/>
          <p:cNvGraphicFramePr/>
          <p:nvPr/>
        </p:nvGraphicFramePr>
        <p:xfrm>
          <a:off x="914400" y="2590920"/>
          <a:ext cx="37339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590920"/>
                    <a:ext cx="37339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5"/>
          <p:cNvGraphicFramePr/>
          <p:nvPr/>
        </p:nvGraphicFramePr>
        <p:xfrm>
          <a:off x="838080" y="3962520"/>
          <a:ext cx="5486400" cy="104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962520"/>
                    <a:ext cx="54864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8"/>
          <p:cNvGraphicFramePr/>
          <p:nvPr/>
        </p:nvGraphicFramePr>
        <p:xfrm>
          <a:off x="838080" y="5638680"/>
          <a:ext cx="472464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638680"/>
                    <a:ext cx="47246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AB6D-36C4-40F9-A500-227D901DC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ovariance Between Two Portfolio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the two portfolio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Object 4"/>
          <p:cNvGraphicFramePr/>
          <p:nvPr/>
        </p:nvGraphicFramePr>
        <p:xfrm>
          <a:off x="762120" y="5257800"/>
          <a:ext cx="79246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257800"/>
                    <a:ext cx="79246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5"/>
          <p:cNvGraphicFramePr/>
          <p:nvPr/>
        </p:nvGraphicFramePr>
        <p:xfrm>
          <a:off x="2133720" y="365760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65760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7468-218E-4841-9231-2B6D94EAF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80"/>
                </a:solidFill>
                <a:uFillTx/>
                <a:latin typeface="Times New Roman"/>
              </a:rPr>
              <a:t>The Optimization Problem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E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esired (target) expected return on the portfolio and     is a vector of ones and the vector     is defined a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2971800" y="1981080"/>
          <a:ext cx="10350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10350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5"/>
          <p:cNvGraphicFramePr/>
          <p:nvPr/>
        </p:nvGraphicFramePr>
        <p:xfrm>
          <a:off x="1676520" y="2438280"/>
          <a:ext cx="38088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438280"/>
                    <a:ext cx="380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895480" y="3112920"/>
          <a:ext cx="2140200" cy="12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112920"/>
                    <a:ext cx="2140200" cy="12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7"/>
          <p:cNvGraphicFramePr/>
          <p:nvPr/>
        </p:nvGraphicFramePr>
        <p:xfrm>
          <a:off x="2743200" y="4648320"/>
          <a:ext cx="2286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4648320"/>
                    <a:ext cx="22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8"/>
          <p:cNvGraphicFramePr/>
          <p:nvPr/>
        </p:nvGraphicFramePr>
        <p:xfrm>
          <a:off x="7086600" y="4800600"/>
          <a:ext cx="3524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4800600"/>
                    <a:ext cx="352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9"/>
          <p:cNvGraphicFramePr/>
          <p:nvPr/>
        </p:nvGraphicFramePr>
        <p:xfrm>
          <a:off x="2743200" y="5105520"/>
          <a:ext cx="2133720" cy="120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5105520"/>
                    <a:ext cx="213372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CA98-9C6E-4F8C-A6E3-80654B3B1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Lagrangian Method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2057400" y="2743200"/>
          <a:ext cx="541008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743200"/>
                    <a:ext cx="5410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4"/>
          <p:cNvGraphicFramePr/>
          <p:nvPr/>
        </p:nvGraphicFramePr>
        <p:xfrm>
          <a:off x="1523880" y="1752480"/>
          <a:ext cx="5867640" cy="8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752480"/>
                    <a:ext cx="58676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7"/>
          <p:cNvGraphicFramePr/>
          <p:nvPr/>
        </p:nvGraphicFramePr>
        <p:xfrm>
          <a:off x="914400" y="2362320"/>
          <a:ext cx="30492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3623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0"/>
          <p:cNvGraphicFramePr/>
          <p:nvPr/>
        </p:nvGraphicFramePr>
        <p:xfrm>
          <a:off x="1447920" y="3429000"/>
          <a:ext cx="304560" cy="2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3429000"/>
                    <a:ext cx="3045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1"/>
          <p:cNvGraphicFramePr/>
          <p:nvPr/>
        </p:nvGraphicFramePr>
        <p:xfrm>
          <a:off x="2438280" y="3809880"/>
          <a:ext cx="5032440" cy="89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809880"/>
                    <a:ext cx="50324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13"/>
          <p:cNvGraphicFramePr/>
          <p:nvPr/>
        </p:nvGraphicFramePr>
        <p:xfrm>
          <a:off x="1828800" y="4419720"/>
          <a:ext cx="30492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0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4197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15"/>
          <p:cNvGraphicFramePr/>
          <p:nvPr/>
        </p:nvGraphicFramePr>
        <p:xfrm>
          <a:off x="741240" y="4714920"/>
          <a:ext cx="5757840" cy="159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1240" y="4714920"/>
                    <a:ext cx="575784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1C2C-74FE-404C-A6BD-92D128D9F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Taking Derivativ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685800" y="1981080"/>
          <a:ext cx="678168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7816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24D3-97DD-44BC-910C-D34FC732C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990720" y="555480"/>
          <a:ext cx="7010280" cy="58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55480"/>
                    <a:ext cx="7010280" cy="58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7E1D-30F6-466C-B20E-86675AEB2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ry Markowitz’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fficient portfoli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aximum return for their level of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inimum risk for a certain level of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A7FB-BCD7-4C13-904F-4F2E10DA3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equation solves the mean-variance portfolio problem. The equation gives us the optimal weights achieving the lowest portfolio variance given a desired expected portfolio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plugging the optimal portfolio weights back into th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us the efficient portfolio fronti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Object 6"/>
          <p:cNvGraphicFramePr/>
          <p:nvPr/>
        </p:nvGraphicFramePr>
        <p:xfrm>
          <a:off x="6248520" y="3733920"/>
          <a:ext cx="152388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733920"/>
                    <a:ext cx="152388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7"/>
          <p:cNvGraphicFramePr/>
          <p:nvPr/>
        </p:nvGraphicFramePr>
        <p:xfrm>
          <a:off x="1143000" y="5005440"/>
          <a:ext cx="617220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5005440"/>
                    <a:ext cx="61722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6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0915-1403-4C1A-B8AA-D77017166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Global Minimum Variance Portfolio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imilar fashion, we can solve for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obal minimum 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rtfol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minimum variance portfolio is the efficient frontier portfolio that displays the absolute minimum var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143000" y="3124080"/>
          <a:ext cx="69343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124080"/>
                    <a:ext cx="69343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9F32-7317-4BF5-9944-8DC409BED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Another Way to Derive the Mean-Variance Efficient Portfolio </a:t>
            </a: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Frontier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use of the following property: if two portfolios lie on the efficient frontier, any linear combination of these portfolios will also lie on the frontier. Therefore, just find two mean-variance efficient portfolios, and compute/plot the mean and standard deviation of various linear combinations of these portfol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1939-C362-4590-A6B3-7607DF2F5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8884-D691-44C4-9E7C-C2E11D095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A854-1E08-4CFA-87C1-568E659EC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ome Excel Tip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i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n array (i.e., to name a matrix or a vecto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the array (the numbers defining the matr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‘Insert’, then ‘Name’, and finally ‘Define’ and type in the desired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3E31-D214-4D2A-A30C-04EBBFC13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matrix previously named (as an example) “V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inverse(V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inverse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6DC8-89B2-4191-AB7C-0A39F9CF1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en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lti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atrices named “V” and “W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mult(V,W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product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D1CC-608C-43A6-BF2F-283B60A2A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Single-Index Model Computational Advantages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gle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ares all securities to a single bench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ive to comparing a security to each of the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observing how two independent securities behave relative to a third value, we learn something about how the securities are likely to behave relative to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7098-69A5-4BC5-822B-8D01AEF75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mputational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dvantage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index drastically reduces the number of computations needed to determine portfolio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curity’s beta is an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1905120" y="3962520"/>
          <a:ext cx="5003640" cy="23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962520"/>
                    <a:ext cx="500364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773C-50E5-4917-92C4-A87297E45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rtfolio’s performance is the result of the performance of it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turn realized on a portfolio is a linear combination of the returns on the individual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ar combination of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2925-343A-4AC2-B31A-AF207A075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a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Object 4"/>
          <p:cNvGraphicFramePr/>
          <p:nvPr/>
        </p:nvGraphicFramePr>
        <p:xfrm>
          <a:off x="2971800" y="2514600"/>
          <a:ext cx="217188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14600"/>
                    <a:ext cx="217188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819520" y="4419720"/>
          <a:ext cx="264132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419720"/>
                    <a:ext cx="26413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2FA1-E938-464D-A5AF-9178A3D2C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762120" y="1295280"/>
          <a:ext cx="671328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671328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8CE7-8A4C-44FC-92BE-D2B07E4C0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 compon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nce of two portfolio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Object 6"/>
          <p:cNvGraphicFramePr/>
          <p:nvPr/>
        </p:nvGraphicFramePr>
        <p:xfrm>
          <a:off x="2895480" y="2666880"/>
          <a:ext cx="322596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666880"/>
                    <a:ext cx="32259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7"/>
          <p:cNvGraphicFramePr/>
          <p:nvPr/>
        </p:nvGraphicFramePr>
        <p:xfrm>
          <a:off x="3276720" y="4572000"/>
          <a:ext cx="2527200" cy="6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572000"/>
                    <a:ext cx="25272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ECAF-6527-4F9B-B934-338BDD312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533520" y="2022480"/>
          <a:ext cx="807696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22480"/>
                    <a:ext cx="80769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C292-9510-4A81-BD87-9010CFF65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ders independent variables other than the performance of an overall market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particular interest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ustry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associated with a particular line of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the performance of grocery stores vs. steel companies in a re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45C9-6877-4DD5-8F55-2EE286A5C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form of a multi-index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Object 4"/>
          <p:cNvGraphicFramePr/>
          <p:nvPr/>
        </p:nvGraphicFramePr>
        <p:xfrm>
          <a:off x="1295280" y="2544840"/>
          <a:ext cx="6248520" cy="37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44840"/>
                    <a:ext cx="624852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305F-2D9A-4926-B7D7-5DEFC45C3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etur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ected return of a portfolio is a weighted average of the expected returns of the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905120" y="3429000"/>
          <a:ext cx="506736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429000"/>
                    <a:ext cx="506736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C552-20A7-47D8-A2F0-53E41DD2D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Varianc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variance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and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36A3-5F50-4857-840B-49F070256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 portfolio variance is the essence of understanding the mathematics of diver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a linear combination of random variables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weighted average of the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B5D1-4D11-4F81-9068-D0CE37CDF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portfolio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219320" y="3352680"/>
          <a:ext cx="66117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117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97D0-4701-4A21-9B7C-AAF016FB5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portfolio containing Stock A and Stock B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1066680" y="3581280"/>
          <a:ext cx="636300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81280"/>
                    <a:ext cx="63630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19:49:06Z</dcterms:created>
  <dc:creator>Paul</dc:creator>
  <dc:description/>
  <dc:language>en-US</dc:language>
  <cp:lastModifiedBy>Paul Grems Duncan</cp:lastModifiedBy>
  <dcterms:modified xsi:type="dcterms:W3CDTF">2011-03-15T01:48:46Z</dcterms:modified>
  <cp:revision>144</cp:revision>
  <dc:subject/>
  <dc:title>PowerPoint Presentation</dc:title>
</cp:coreProperties>
</file>