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16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9.wmf" ContentType="image/x-wmf"/>
  <Override PartName="/ppt/media/image39.wmf" ContentType="image/x-wmf"/>
  <Override PartName="/ppt/media/image8.png" ContentType="image/png"/>
  <Override PartName="/ppt/media/image41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22FC-E29E-4087-A2F7-A4F79B086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050F-B360-461B-B541-FCE96B16B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8E3-F4EB-4A71-B6B0-B50E68CD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FFD-F2C5-4A26-B68C-AFB27CEB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8E9-9092-42F1-97B1-75737389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53E-E327-41F5-80B3-EF6D50C1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6250-3350-46C0-84D0-304D63FD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0C02-176E-4985-A4F1-2AD7AC47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2F4F-6642-4911-BDF5-3AB0B536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4753-B5A0-4B41-B766-6D611A1B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A0AF-8A62-4008-BAEA-8EE365C7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5630-D91A-4550-9BCD-1883472F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8AD1-C421-4703-93E4-5D3BB509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F59-1941-4A43-81FA-88994127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1F31-0ECD-493A-B0A9-850CAAAE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4807-DD88-40B6-83E1-0E828B3D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53F0-A17A-4040-B656-77233F47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21A2-0B04-4BF9-AC32-4504AF55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13F1-AF6B-43A2-9EC8-E24994C4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F57B-1A1A-4345-A2C1-26B3DD03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788-0298-45BF-AD92-785D1BD4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FB3-A656-461F-91C3-30A7CEC8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E022-6C73-46A3-9D22-318D8C73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A7E-416D-4DAD-8DDE-702573E7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18F-62E7-49AE-B626-70D3C0EA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62C0-EEA9-4F5B-9E23-6733FFA8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Freeform 11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Freeform 18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Freeform 25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Group 31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Freeform 32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0EC1-0838-49C2-AA55-F826220DC42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E861-AC9A-40A0-9136-0B9D4180B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Rectangle 3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4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5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6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7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9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0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Group 11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Freeform 12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13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8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Freeform 19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20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21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22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23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5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Freeform 26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28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9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30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31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57D9-71F3-4CB4-9631-20EEF2CA59E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6FBF-A41E-4A2D-B64F-8F8B7BF18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6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A78C-3EF1-46B7-B370-EED69DEA1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hapter 5</a:t>
            </a:r>
            <a:br>
              <a:rPr sz="4400"/>
            </a:br>
            <a:br>
              <a:rPr sz="4400"/>
            </a:br>
            <a:r>
              <a:rPr b="1" i="1" lang="en-US" sz="4000" spc="-1" strike="noStrike">
                <a:solidFill>
                  <a:srgbClr val="000080"/>
                </a:solidFill>
                <a:latin typeface="Times New Roman"/>
              </a:rPr>
              <a:t>The Mathematics of Diversification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12"/>
          <p:cNvGraphicFramePr/>
          <p:nvPr/>
        </p:nvGraphicFramePr>
        <p:xfrm>
          <a:off x="6019920" y="3962520"/>
          <a:ext cx="166824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962520"/>
                    <a:ext cx="166824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E102-3D28-4A17-BC32-E504AABD4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e following statistics for Stock A and Stock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62120" y="3429000"/>
          <a:ext cx="7391160" cy="2835360"/>
        </p:xfrm>
        <a:graphic>
          <a:graphicData uri="http://schemas.openxmlformats.org/drawingml/2006/table">
            <a:tbl>
              <a:tblPr/>
              <a:tblGrid>
                <a:gridCol w="2971800"/>
                <a:gridCol w="1955520"/>
                <a:gridCol w="246384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cted re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dev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elation coeffic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1371-89A9-46AA-9177-BEAF62A48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expected return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2209680" y="3505320"/>
          <a:ext cx="48405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505320"/>
                    <a:ext cx="48405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C6AA-6CAF-4B24-96C9-295F0C0A5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 (cont’d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variance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30"/>
          <p:cNvGraphicFramePr/>
          <p:nvPr/>
        </p:nvGraphicFramePr>
        <p:xfrm>
          <a:off x="533520" y="3809880"/>
          <a:ext cx="826776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826776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3891-6E10-4EE0-8F18-8198869A9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Portfolio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nimum variance portfolio is the particular combination of securities that will result in the least possibl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for the minimum variance portfolio requires basic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A764-E934-47C3-9060-16DB7FFC9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minimum variance portfolio, the proportions invested in stocks A and B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2133720" y="3581280"/>
          <a:ext cx="452124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581280"/>
                    <a:ext cx="452124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9717-35EE-4DFE-A601-22F0DF6CF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weights of the minimum variance portfolios in the previous case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5"/>
          <p:cNvGraphicFramePr/>
          <p:nvPr/>
        </p:nvGraphicFramePr>
        <p:xfrm>
          <a:off x="533520" y="3962520"/>
          <a:ext cx="815328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962520"/>
                    <a:ext cx="81532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970C-D75F-4505-9A09-2119972B2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5"/>
          <p:cNvGraphicFramePr/>
          <p:nvPr/>
        </p:nvGraphicFramePr>
        <p:xfrm>
          <a:off x="1600200" y="2362320"/>
          <a:ext cx="556272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62320"/>
                    <a:ext cx="556272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6"/>
          <p:cNvSpPr/>
          <p:nvPr/>
        </p:nvSpPr>
        <p:spPr>
          <a:xfrm flipH="1" rot="10800000">
            <a:off x="1069200" y="2895480"/>
            <a:ext cx="546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igh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427200" y="59436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rtfolio 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2133720" y="4114800"/>
            <a:ext cx="3200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5334120" y="4114800"/>
            <a:ext cx="0" cy="1371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B9CE-4CCB-4631-879F-A93A01FD5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rrelation and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isk Re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folio risk decreases as the correlation coefficient in the returns of two securities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reduction is greatest when the securities are perfectly negatively cor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ecurities are perfectly positively correlated, there is no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C52A-1089-4991-8B8B-E02AA9AAA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1295280" y="3048120"/>
          <a:ext cx="661212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66121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23F0-C60C-413D-80FE-71B152B7C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variance matr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abular presentation of the pairwise combinations of all portfolio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quired number of covariances to compute a portfolio variance is (n</a:t>
            </a:r>
            <a:r>
              <a:rPr b="0" lang="en-US" sz="28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n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ortfolio construction technique using the full covariance matrix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kowitz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1019-A923-43E8-93FD-6B7A1EEAF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son for portfolio theory mathemat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is a good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makes sense lo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D8D0-B72F-4B0B-B98D-8C39E2C4F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Example of Variance-Covariance Matrix Computation in Excel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76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EB93-CE31-41AD-A550-F901BDB05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7118-5B33-41B5-BA6B-C54095E1D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4"/>
          <p:cNvSpPr/>
          <p:nvPr/>
        </p:nvSpPr>
        <p:spPr>
          <a:xfrm>
            <a:off x="0" y="-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2600" y="3687840"/>
          <a:ext cx="596880" cy="517320"/>
        </p:xfrm>
        <a:graphic>
          <a:graphicData uri="http://schemas.openxmlformats.org/drawingml/2006/table">
            <a:tbl>
              <a:tblPr/>
              <a:tblGrid>
                <a:gridCol w="5968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Picture 258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06C4-78D6-41CC-A1CD-F2C7E10E8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Portfolio Mathematic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 as the (vertical) vector of weights on the different as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th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folio optimization consists of minimizing this variance subject to the constraint of achieving a given expected ret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2286000" y="4114800"/>
          <a:ext cx="175248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114800"/>
                    <a:ext cx="17524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5"/>
          <p:cNvGraphicFramePr/>
          <p:nvPr/>
        </p:nvGraphicFramePr>
        <p:xfrm>
          <a:off x="2133720" y="281952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81952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372D-C275-4C3F-8CA6-79531331A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Portfolio Variance in the 2-asset case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838080" y="5029200"/>
          <a:ext cx="426744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029200"/>
                    <a:ext cx="4267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4"/>
          <p:cNvGraphicFramePr/>
          <p:nvPr/>
        </p:nvGraphicFramePr>
        <p:xfrm>
          <a:off x="914400" y="2590920"/>
          <a:ext cx="37339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590920"/>
                    <a:ext cx="37339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5"/>
          <p:cNvGraphicFramePr/>
          <p:nvPr/>
        </p:nvGraphicFramePr>
        <p:xfrm>
          <a:off x="838080" y="3962520"/>
          <a:ext cx="5486400" cy="104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962520"/>
                    <a:ext cx="54864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8"/>
          <p:cNvGraphicFramePr/>
          <p:nvPr/>
        </p:nvGraphicFramePr>
        <p:xfrm>
          <a:off x="838080" y="5638680"/>
          <a:ext cx="472464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638680"/>
                    <a:ext cx="47246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8827-6A11-43D0-AF49-0D8ED4F29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ovariance Between Two Portfolio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the two portfolio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Object 4"/>
          <p:cNvGraphicFramePr/>
          <p:nvPr/>
        </p:nvGraphicFramePr>
        <p:xfrm>
          <a:off x="762120" y="5257800"/>
          <a:ext cx="79246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257800"/>
                    <a:ext cx="79246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5"/>
          <p:cNvGraphicFramePr/>
          <p:nvPr/>
        </p:nvGraphicFramePr>
        <p:xfrm>
          <a:off x="2133720" y="365760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65760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5E5E-96E5-48D1-A1F9-046F7C8DC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80"/>
                </a:solidFill>
                <a:uFillTx/>
                <a:latin typeface="Times New Roman"/>
              </a:rPr>
              <a:t>The Optimization Problem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E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esired (target) expected return on the portfolio and     is a vector of ones and the vector     is defined a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2971800" y="1981080"/>
          <a:ext cx="10350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10350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5"/>
          <p:cNvGraphicFramePr/>
          <p:nvPr/>
        </p:nvGraphicFramePr>
        <p:xfrm>
          <a:off x="1676520" y="2438280"/>
          <a:ext cx="38088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438280"/>
                    <a:ext cx="380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895480" y="3112920"/>
          <a:ext cx="2140200" cy="12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112920"/>
                    <a:ext cx="2140200" cy="12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7"/>
          <p:cNvGraphicFramePr/>
          <p:nvPr/>
        </p:nvGraphicFramePr>
        <p:xfrm>
          <a:off x="2743200" y="4648320"/>
          <a:ext cx="2286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4648320"/>
                    <a:ext cx="22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8"/>
          <p:cNvGraphicFramePr/>
          <p:nvPr/>
        </p:nvGraphicFramePr>
        <p:xfrm>
          <a:off x="7086600" y="4800600"/>
          <a:ext cx="3524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4800600"/>
                    <a:ext cx="352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9"/>
          <p:cNvGraphicFramePr/>
          <p:nvPr/>
        </p:nvGraphicFramePr>
        <p:xfrm>
          <a:off x="2743200" y="5105520"/>
          <a:ext cx="2133720" cy="120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5105520"/>
                    <a:ext cx="213372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F5A7-87E4-4599-9B84-020802445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Lagrangian Method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2057400" y="2743200"/>
          <a:ext cx="541008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743200"/>
                    <a:ext cx="5410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4"/>
          <p:cNvGraphicFramePr/>
          <p:nvPr/>
        </p:nvGraphicFramePr>
        <p:xfrm>
          <a:off x="1523880" y="1752480"/>
          <a:ext cx="5867640" cy="8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752480"/>
                    <a:ext cx="58676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7"/>
          <p:cNvGraphicFramePr/>
          <p:nvPr/>
        </p:nvGraphicFramePr>
        <p:xfrm>
          <a:off x="914400" y="2362320"/>
          <a:ext cx="30492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3623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0"/>
          <p:cNvGraphicFramePr/>
          <p:nvPr/>
        </p:nvGraphicFramePr>
        <p:xfrm>
          <a:off x="1447920" y="3429000"/>
          <a:ext cx="304560" cy="2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3429000"/>
                    <a:ext cx="3045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1"/>
          <p:cNvGraphicFramePr/>
          <p:nvPr/>
        </p:nvGraphicFramePr>
        <p:xfrm>
          <a:off x="2438280" y="3809880"/>
          <a:ext cx="5032440" cy="89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809880"/>
                    <a:ext cx="50324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13"/>
          <p:cNvGraphicFramePr/>
          <p:nvPr/>
        </p:nvGraphicFramePr>
        <p:xfrm>
          <a:off x="1828800" y="4419720"/>
          <a:ext cx="30492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0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4197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15"/>
          <p:cNvGraphicFramePr/>
          <p:nvPr/>
        </p:nvGraphicFramePr>
        <p:xfrm>
          <a:off x="741240" y="4714920"/>
          <a:ext cx="5757840" cy="159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1240" y="4714920"/>
                    <a:ext cx="575784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B2D6-B3A0-4776-937B-DE1731BD5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Taking Derivativ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685800" y="1981080"/>
          <a:ext cx="678168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7816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9161-115A-49D6-AE50-90CCD46A0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990720" y="555480"/>
          <a:ext cx="7010280" cy="58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55480"/>
                    <a:ext cx="7010280" cy="58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203B-E950-4DA9-8047-0309C0C54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ry Markowitz’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fficient portfoli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aximum return for their level of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inimum risk for a certain level of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9585-BA18-4B78-A64C-FA16E021D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equation solves the mean-variance portfolio problem. The equation gives us the optimal weights achieving the lowest portfolio variance given a desired expected portfolio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plugging the optimal portfolio weights back into th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us the efficient portfolio fronti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Object 6"/>
          <p:cNvGraphicFramePr/>
          <p:nvPr/>
        </p:nvGraphicFramePr>
        <p:xfrm>
          <a:off x="6248520" y="3733920"/>
          <a:ext cx="152388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733920"/>
                    <a:ext cx="152388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7"/>
          <p:cNvGraphicFramePr/>
          <p:nvPr/>
        </p:nvGraphicFramePr>
        <p:xfrm>
          <a:off x="1143000" y="5005440"/>
          <a:ext cx="617220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5005440"/>
                    <a:ext cx="61722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6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877B-3A90-44BA-AA46-DAE8CBBAE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Global Minimum Variance Portfolio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imilar fashion, we can solve for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obal minimum 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rtfol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minimum variance portfolio is the efficient frontier portfolio that displays the absolute minimum var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143000" y="3124080"/>
          <a:ext cx="69343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124080"/>
                    <a:ext cx="69343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7935-76D2-4662-9704-29755465C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Another Way to Derive the Mean-Variance Efficient Portfolio </a:t>
            </a: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Frontier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use of the following property: if two portfolios lie on the efficient frontier, any linear combination of these portfolios will also lie on the frontier. Therefore, just find two mean-variance efficient portfolios, and compute/plot the mean and standard deviation of various linear combinations of these portfol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017B-2D23-4D0A-BC80-DC6F4A61C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FE0C-9271-4CCE-A3F6-98C5941F4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89E6-3EC8-4977-93B2-7BFAADAA8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ome Excel Tip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i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n array (i.e., to name a matrix or a vecto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the array (the numbers defining the matr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‘Insert’, then ‘Name’, and finally ‘Define’ and type in the desired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0A73-FF27-4510-A3B9-8F65B0DD7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matrix previously named (as an example) “V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inverse(V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inverse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1E25-ACB2-420A-8FC8-0171DB147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en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lti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atrices named “V” and “W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mult(V,W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product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2BA2-A698-40EE-BCEB-7978786AA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Single-Index Model Computational Advantages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gle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ares all securities to a single bench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ive to comparing a security to each of the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observing how two independent securities behave relative to a third value, we learn something about how the securities are likely to behave relative to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9CD8-3564-4263-8C13-C3121016A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mputational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dvantage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index drastically reduces the number of computations needed to determine portfolio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curity’s beta is an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1905120" y="3962520"/>
          <a:ext cx="5003640" cy="23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962520"/>
                    <a:ext cx="500364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F403-C83B-435B-97BC-9B4B1C23D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rtfolio’s performance is the result of the performance of it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turn realized on a portfolio is a linear combination of the returns on the individual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ar combination of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A31B-138F-4DEA-9EDF-97104F8DB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a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Object 4"/>
          <p:cNvGraphicFramePr/>
          <p:nvPr/>
        </p:nvGraphicFramePr>
        <p:xfrm>
          <a:off x="2971800" y="2514600"/>
          <a:ext cx="217188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14600"/>
                    <a:ext cx="217188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819520" y="4419720"/>
          <a:ext cx="264132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419720"/>
                    <a:ext cx="26413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98D0-CFAC-4778-8D2E-12ECE668A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762120" y="1295280"/>
          <a:ext cx="671328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671328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2F4D-1D3F-4594-8C3A-37A9560AF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 compon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nce of two portfolio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Object 6"/>
          <p:cNvGraphicFramePr/>
          <p:nvPr/>
        </p:nvGraphicFramePr>
        <p:xfrm>
          <a:off x="2895480" y="2666880"/>
          <a:ext cx="322596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666880"/>
                    <a:ext cx="32259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7"/>
          <p:cNvGraphicFramePr/>
          <p:nvPr/>
        </p:nvGraphicFramePr>
        <p:xfrm>
          <a:off x="3276720" y="4572000"/>
          <a:ext cx="2527200" cy="6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572000"/>
                    <a:ext cx="25272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3082-BEB1-4457-AD99-F802BDCB7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533520" y="2022480"/>
          <a:ext cx="807696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22480"/>
                    <a:ext cx="80769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F3BB-2EAD-487E-8347-1A6331A34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ders independent variables other than the performance of an overall market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particular interest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ustry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associated with a particular line of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the performance of grocery stores vs. steel companies in a re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263C-BE87-4E1A-8AB9-45481C67C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form of a multi-index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Object 4"/>
          <p:cNvGraphicFramePr/>
          <p:nvPr/>
        </p:nvGraphicFramePr>
        <p:xfrm>
          <a:off x="1295280" y="2544840"/>
          <a:ext cx="6248520" cy="37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44840"/>
                    <a:ext cx="624852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0966-4309-4832-8213-7D6F3A38B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etur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ected return of a portfolio is a weighted average of the expected returns of the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905120" y="3429000"/>
          <a:ext cx="506736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429000"/>
                    <a:ext cx="506736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AFF9-7972-4E69-A384-4913C8286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Varianc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variance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and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8935-5428-4209-B128-54314A054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 portfolio variance is the essence of understanding the mathematics of diver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a linear combination of random variables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weighted average of the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E0FF-35A7-4706-8BB5-9CAC7C571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portfolio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219320" y="3352680"/>
          <a:ext cx="66117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117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2B56-651F-47AA-93F7-2DAA36D78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portfolio containing Stock A and Stock B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1066680" y="3581280"/>
          <a:ext cx="636300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81280"/>
                    <a:ext cx="63630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19:49:06Z</dcterms:created>
  <dc:creator>Paul</dc:creator>
  <dc:description/>
  <dc:language>en-US</dc:language>
  <cp:lastModifiedBy>Paul Grems Duncan</cp:lastModifiedBy>
  <dcterms:modified xsi:type="dcterms:W3CDTF">2011-03-15T01:48:46Z</dcterms:modified>
  <cp:revision>144</cp:revision>
  <dc:subject/>
  <dc:title>PowerPoint Presentation</dc:title>
</cp:coreProperties>
</file>