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D74E-70B4-4038-A21B-CE6C07D34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C217-F126-4119-98CF-E55AB7749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C51-2093-4E76-8576-1A0D212D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2DA-9760-40E3-BFFC-6A9125ED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679-D19C-4A0E-AAB4-929EA21B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359-D72F-4872-BA39-46654F92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7B24-C433-45E9-A279-10A2BA47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1EAB-F1A2-47AB-9C15-6EDA9D52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EF9B-9150-43E3-9176-841502AD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92B4-D474-46A0-82B3-AA217F94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3EBC-441F-49BA-832E-3FFD00C2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FD67-7481-4B2A-AFC2-93972204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3CA6-C712-4FCD-A0F9-1E5CBF92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E72-D4F3-495D-A790-FADAF7A9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928D-342D-41A3-A075-D6F1B782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2BD4-A994-4E6C-BBA3-E9B9C726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BDC1-39A1-421B-8F13-C8B2FB33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6580-EA02-4426-8937-A1FD1F23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B6A5-CCA3-461A-B8D0-FEF5060D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194-952D-477B-B9C1-5D49172D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0B6-0FD1-4257-9CB9-17A364A0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EF6-5C0A-4B46-854C-A6DEF1A3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523-2989-4BA2-AA9C-01CD2793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381-33B7-40B0-8E1F-A0AC96F1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023-9DEE-442C-9B00-9C42CC07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9DD-E861-4107-B182-240DB101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FA7B-48BF-4EB5-9DCB-445EF1BC2F6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65D0-9820-4ABA-AF93-0C54BC9C7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A2F7-C7AF-4C7F-A5A7-E64B6D2265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1AED-3706-4334-AAD8-DCE01D007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57E4-F745-4D7C-867C-C30F64A39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hapter 5</a:t>
            </a:r>
            <a:br>
              <a:rPr sz="4400"/>
            </a:br>
            <a:br>
              <a:rPr sz="4400"/>
            </a:b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The Mathematics of Divers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6019920" y="3962520"/>
          <a:ext cx="166824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962520"/>
                    <a:ext cx="16682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A224-2B3C-4E5C-B84B-7A82C4D40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following statistics for Stock A and Stock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2120" y="3429000"/>
          <a:ext cx="7391160" cy="2835360"/>
        </p:xfrm>
        <a:graphic>
          <a:graphicData uri="http://schemas.openxmlformats.org/drawingml/2006/table">
            <a:tbl>
              <a:tblPr/>
              <a:tblGrid>
                <a:gridCol w="2971800"/>
                <a:gridCol w="1955520"/>
                <a:gridCol w="2463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lation co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C31C-D9D8-417E-AA07-3FD5B717F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expected return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09680" y="3505320"/>
          <a:ext cx="4840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840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EA0A-4FF3-4BA7-9339-C4FE87D3A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(cont’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variance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30"/>
          <p:cNvGraphicFramePr/>
          <p:nvPr/>
        </p:nvGraphicFramePr>
        <p:xfrm>
          <a:off x="533520" y="3809880"/>
          <a:ext cx="82677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677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70AC-42EE-48C2-BF60-A56F69356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Portfoli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mum variance portfolio is the particular combination of securities that will result in the least possibl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the minimum variance portfolio requires basic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17EC-3696-4F6C-A4F4-D349BDAB9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minimum variance portfolio, the proportions invested in stocks A and B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133720" y="3581280"/>
          <a:ext cx="45212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45212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B3C5-5162-4FFF-B00A-27CE9E76F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eights of the minimum variance portfolios in the previous cas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533520" y="3962520"/>
          <a:ext cx="815328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153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48ED-B631-4C05-BDDF-C3EB239CB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1600200" y="2362320"/>
          <a:ext cx="55627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5627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6"/>
          <p:cNvSpPr/>
          <p:nvPr/>
        </p:nvSpPr>
        <p:spPr>
          <a:xfrm flipH="1" rot="10800000">
            <a:off x="1069200" y="289548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427200" y="59436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folio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133720" y="411480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114800"/>
            <a:ext cx="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0DE7-5351-4C93-BFC3-B9C4A3370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rrelation and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isk Re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risk decreases as the correlation coefficient in the returns of two securitie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reduction is greatest when the securities are perfectly negatively 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curities are perfectly positively correlated, there is no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6E98-ABE4-4546-933D-17ABB916A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95280" y="3048120"/>
          <a:ext cx="66121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6612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F3B6-4298-4108-A614-4948409EC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abular presentation of the pairwise combinations of all portfoli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d number of covariances to compute a portfolio variance is (n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ortfolio construction technique using the full covariance matrix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kowitz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2BC1-228B-4C65-8200-0FBA5CACC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portfolio theory mathema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is a goo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makes sense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D623-FE7A-4747-A8C3-4A2AFE24E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Example of Variance-Covariance Matrix Computation in Exce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D2EC-41FE-4208-BA84-023960AF5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E517-7BDD-4BA0-9C17-281057E20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4"/>
          <p:cNvSpPr/>
          <p:nvPr/>
        </p:nvSpPr>
        <p:spPr>
          <a:xfrm>
            <a:off x="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600" y="3687840"/>
          <a:ext cx="596880" cy="51732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58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74B0-4DD5-45AE-A8B6-E253545B8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Portfolio Mathematic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 as the (vertical) vector of weights on the different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 optimization consists of minimizing this variance subject to the constraint of achieving a given expected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286000" y="4114800"/>
          <a:ext cx="175248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14800"/>
                    <a:ext cx="1752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2133720" y="281952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1952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966D-EBBF-46F8-987F-F26531358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Portfolio Variance in the 2-asset cas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838080" y="5029200"/>
          <a:ext cx="42674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029200"/>
                    <a:ext cx="4267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"/>
          <p:cNvGraphicFramePr/>
          <p:nvPr/>
        </p:nvGraphicFramePr>
        <p:xfrm>
          <a:off x="914400" y="2590920"/>
          <a:ext cx="37339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373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838080" y="3962520"/>
          <a:ext cx="548640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54864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838080" y="5638680"/>
          <a:ext cx="472464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47246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4AB6-EBEC-4279-9E4E-BD4D9823B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ovariance Between Two Portfolio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two portfolio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762120" y="5257800"/>
          <a:ext cx="7924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924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2133720" y="365760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5760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1AA5-63FA-4ACA-AA3E-E2A7DCB6C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The Optimization Proble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sired (target) expected return on the portfolio and     is a vector of ones and the vector     is defined a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971800" y="1981080"/>
          <a:ext cx="10350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1035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1676520" y="243828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43828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895480" y="3112920"/>
          <a:ext cx="2140200" cy="12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112920"/>
                    <a:ext cx="2140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743200" y="4648320"/>
          <a:ext cx="22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7086600" y="4800600"/>
          <a:ext cx="352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48006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"/>
          <p:cNvGraphicFramePr/>
          <p:nvPr/>
        </p:nvGraphicFramePr>
        <p:xfrm>
          <a:off x="2743200" y="5105520"/>
          <a:ext cx="213372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05520"/>
                    <a:ext cx="21337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0C5A-B6A9-4748-8110-31F3ECAE7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agrangian Method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2057400" y="2743200"/>
          <a:ext cx="5410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5410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23880" y="1752480"/>
          <a:ext cx="586764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8676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914400" y="2362320"/>
          <a:ext cx="304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1447920" y="3429000"/>
          <a:ext cx="3045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30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2438280" y="3809880"/>
          <a:ext cx="503244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09880"/>
                    <a:ext cx="50324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3"/>
          <p:cNvGraphicFramePr/>
          <p:nvPr/>
        </p:nvGraphicFramePr>
        <p:xfrm>
          <a:off x="1828800" y="4419720"/>
          <a:ext cx="30492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4197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41240" y="4714920"/>
          <a:ext cx="5757840" cy="159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1240" y="4714920"/>
                    <a:ext cx="5757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BBB0-DF05-44F9-9684-FB69C1614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aking Deriva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685800" y="1981080"/>
          <a:ext cx="67816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C585-265A-4F77-A1A0-3D55B8054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990720" y="555480"/>
          <a:ext cx="701028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55480"/>
                    <a:ext cx="701028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550E-18FD-4BF3-B99B-97F2FA3A4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Markowitz’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ficient portfol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aximum return for their level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inimum risk for a certain level of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96DE-56BA-47B3-B8EF-60A1D1180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equation solves the mean-variance portfolio problem. The equation gives us the optimal weights achieving the lowest portfolio variance given a desired expected portfoli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plugging the optimal portfolio weights back into th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us the efficient portfolio fronti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6"/>
          <p:cNvGraphicFramePr/>
          <p:nvPr/>
        </p:nvGraphicFramePr>
        <p:xfrm>
          <a:off x="6248520" y="3733920"/>
          <a:ext cx="152388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733920"/>
                    <a:ext cx="15238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1143000" y="5005440"/>
          <a:ext cx="617220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05440"/>
                    <a:ext cx="6172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64E-56A2-4E10-988C-BB2D0735F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Global Minimum Variance Portfoli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imilar fashion, we can solve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obal minimum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tfol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minimum variance portfolio is the efficient frontier portfolio that displays the absolute minimum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143000" y="3124080"/>
          <a:ext cx="69343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934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FC5F-D19E-4AA1-98CB-6950A32C2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Another Way to Derive the Mean-Variance Efficient Portfolio </a:t>
            </a: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Frontier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se of the following property: if two portfolios lie on the efficient frontier, any linear combination of these portfolios will also lie on the frontier. Therefore, just find two mean-variance efficient portfolios, and compute/plot the mean and standard deviation of various linear combinations of these portfol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D001-F0B4-4E24-8A52-366D4E8F6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3820-1C3B-4FAE-9EEC-6A6350140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61D0-2166-4FAA-A0CC-B71DA884E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me Excel Tip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array (i.e., to name a matrix or a vec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the array (the numbers defining the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‘Insert’, then ‘Name’, and finally ‘Define’ and type in the desired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0660-B53F-48D1-BF54-5799F5443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matrix previously named (as an example) “V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inverse(V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inverse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C468-8D95-4A8B-8314-69F591BA8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en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atrices named “V” and “W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mult(V,W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product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0982-195A-4198-869E-2820C2D99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ingle-Index Model Computational Advantages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gle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res all securities to a singl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comparing a security to each of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observing how two independent securities behave relative to a third value, we learn something about how the securities are likely to behave relative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3F03-BAB3-4580-9903-7B4C2683B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mputational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dvantage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index drastically reduces the number of computations needed to determine portfolio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urity’s beta is an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1905120" y="3962520"/>
          <a:ext cx="50036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50036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40ED-95DC-46AC-894A-7B18BC31E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folio’s performance is the result of the performance of it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realized on a portfolio is a linear combination of the returns on the individual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ar combination of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DCEB-B4C0-495E-8CF5-2BE3ABBD2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971800" y="2514600"/>
          <a:ext cx="217188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17188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819520" y="4419720"/>
          <a:ext cx="264132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26413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EBA4-F67B-4673-9717-1912EB249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762120" y="1295280"/>
          <a:ext cx="671328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1328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A5B6-898B-484A-AF35-236C6771F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 compon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 of two portfoli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6"/>
          <p:cNvGraphicFramePr/>
          <p:nvPr/>
        </p:nvGraphicFramePr>
        <p:xfrm>
          <a:off x="2895480" y="2666880"/>
          <a:ext cx="32259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225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7"/>
          <p:cNvGraphicFramePr/>
          <p:nvPr/>
        </p:nvGraphicFramePr>
        <p:xfrm>
          <a:off x="3276720" y="4572000"/>
          <a:ext cx="25272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0"/>
                    <a:ext cx="2527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5F9C-BDF5-48DC-8175-F95347FC3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533520" y="2022480"/>
          <a:ext cx="80769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2480"/>
                    <a:ext cx="80769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28CA-883B-4DCF-A5BF-11981C82F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s independent variables other than the performance of an overall market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particular interes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ssociated with a particular line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performance of grocery stores vs. steel companies in a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3C77-EF35-4397-86D6-0F4CA02D5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 of a multi-index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1295280" y="2544840"/>
          <a:ext cx="624852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44840"/>
                    <a:ext cx="624852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16A5-422F-4885-90AD-4041CCBCB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return of a portfolio is a weighted average of the expected returns of the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905120" y="3429000"/>
          <a:ext cx="50673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067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420D-AEE7-4FBF-9C7E-67376798A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variance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and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30A9-ACEC-4741-BDED-EA2E0D835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portfolio variance is the essence of understanding the mathematics of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a linear combination of random variable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eighted average of the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52EB-9B09-437C-82AE-DB1084AB2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portfolio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3352680"/>
          <a:ext cx="66117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117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A4B1-7545-4F77-8409-045F43819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portfolio containing Stock A and Stock B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66680" y="3581280"/>
          <a:ext cx="63630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6363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9:49:06Z</dcterms:created>
  <dc:creator>Paul</dc:creator>
  <dc:description/>
  <dc:language>en-US</dc:language>
  <cp:lastModifiedBy>Paul Grems Duncan</cp:lastModifiedBy>
  <dcterms:modified xsi:type="dcterms:W3CDTF">2011-03-15T01:48:46Z</dcterms:modified>
  <cp:revision>144</cp:revision>
  <dc:subject/>
  <dc:title>PowerPoint Presentation</dc:title>
</cp:coreProperties>
</file>