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28.wmf" ContentType="image/x-wmf"/>
  <Override PartName="/ppt/media/image27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4.wmf" ContentType="image/x-wmf"/>
  <Override PartName="/ppt/media/image6.png" ContentType="image/png"/>
  <Override PartName="/ppt/media/image2.png" ContentType="image/png"/>
  <Override PartName="/ppt/media/image10.wmf" ContentType="image/x-wmf"/>
  <Override PartName="/ppt/media/image47.wmf" ContentType="image/x-wmf"/>
  <Override PartName="/ppt/media/image15.wmf" ContentType="image/x-wmf"/>
  <Override PartName="/ppt/media/image7.png" ContentType="image/png"/>
  <Override PartName="/ppt/media/image40.wmf" ContentType="image/x-wmf"/>
  <Override PartName="/ppt/media/image3.png" ContentType="image/png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2.wmf" ContentType="image/x-wmf"/>
  <Override PartName="/ppt/media/image43.wmf" ContentType="image/x-wmf"/>
  <Override PartName="/ppt/media/image44.wmf" ContentType="image/x-wmf"/>
  <Override PartName="/ppt/media/image45.wmf" ContentType="image/x-wmf"/>
  <Override PartName="/ppt/media/image46.wmf" ContentType="image/x-wmf"/>
  <Override PartName="/ppt/media/image50.wmf" ContentType="image/x-wmf"/>
  <Override PartName="/ppt/media/image13.wmf" ContentType="image/x-wmf"/>
  <Override PartName="/ppt/media/image5.png" ContentType="image/png"/>
  <Override PartName="/ppt/media/image11.wmf" ContentType="image/x-wmf"/>
  <Override PartName="/ppt/media/image48.wmf" ContentType="image/x-wmf"/>
  <Override PartName="/ppt/media/image51.wmf" ContentType="image/x-wmf"/>
  <Override PartName="/ppt/media/image52.wmf" ContentType="image/x-wmf"/>
  <Override PartName="/ppt/media/image53.wmf" ContentType="image/x-wmf"/>
  <Override PartName="/ppt/media/image16.wmf" ContentType="image/x-wmf"/>
  <Override PartName="/ppt/media/image34.wmf" ContentType="image/x-wmf"/>
  <Override PartName="/ppt/media/image33.wmf" ContentType="image/x-wmf"/>
  <Override PartName="/ppt/media/image32.wmf" ContentType="image/x-wmf"/>
  <Override PartName="/ppt/media/image31.wmf" ContentType="image/x-wmf"/>
  <Override PartName="/ppt/media/image30.wmf" ContentType="image/x-wmf"/>
  <Override PartName="/ppt/media/image9.wmf" ContentType="image/x-wmf"/>
  <Override PartName="/ppt/media/image39.wmf" ContentType="image/x-wmf"/>
  <Override PartName="/ppt/media/image8.png" ContentType="image/png"/>
  <Override PartName="/ppt/media/image41.wmf" ContentType="image/x-wmf"/>
  <Override PartName="/ppt/media/image49.wmf" ContentType="image/x-wmf"/>
  <Override PartName="/ppt/media/image12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740FE-B4B9-40A0-BC97-92F76BCFA9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E45A6D-B6B4-4396-9633-01D551F83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5A49C-BACD-4424-8A38-C65E46D3D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9BED-887C-4AA9-B5AA-3878D4573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D281-8779-464F-878F-7C2FF2460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4013-A40E-4A0B-9C0B-4D5B13874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9ED4D-1B7B-46CD-A5E5-54A9669353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2EFC-2405-4B83-8B46-165FB1F99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D26C13-D690-47EE-8C78-19919081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2AF96-2DE6-4EE2-B254-03909F19E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5558D-7906-403C-9CDA-2FFEB2119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B9FE3-1850-4284-9329-F8E0A344A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D7F77-1AD8-4270-BCD6-5BB08E7AC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831B-D228-47FA-AE97-CEE29B627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336CE-792A-4FF3-AC48-502A12490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91155-3D92-45B6-87CE-CE5934923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96B68-0D78-4586-90EE-2F4AF23E2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9384A-6E04-447E-A7F0-04F5764A7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331380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594144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685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6"/>
          <p:cNvSpPr>
            <a:spLocks noGrp="1"/>
          </p:cNvSpPr>
          <p:nvPr>
            <p:ph/>
          </p:nvPr>
        </p:nvSpPr>
        <p:spPr>
          <a:xfrm>
            <a:off x="331380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7"/>
          <p:cNvSpPr>
            <a:spLocks noGrp="1"/>
          </p:cNvSpPr>
          <p:nvPr>
            <p:ph/>
          </p:nvPr>
        </p:nvSpPr>
        <p:spPr>
          <a:xfrm>
            <a:off x="594144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52D9-C4EF-4068-9BE2-E7BC743AE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AD840-1FBA-4A14-BEE6-F87EDF3A7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A8E0-F123-4A8A-88F0-097257434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B93FB-D1BF-4DB1-AE0C-2B25CE168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E4483-ECC9-430C-9A77-A891745E4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F93-AAD7-4D58-BF77-B903286BA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684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008FC-7181-461D-B271-8C6A4D2EE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B14-301F-4CAC-89FC-47D415927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64520" cy="6867360"/>
            <a:chOff x="0" y="0"/>
            <a:chExt cx="916452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4557600" cy="34322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432240"/>
              <a:ext cx="4556160" cy="34192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4575240" y="0"/>
              <a:ext cx="4557600" cy="34322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5240" y="3432240"/>
              <a:ext cx="4557600" cy="341928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91960" y="330120"/>
              <a:ext cx="8566200" cy="620388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396720" y="425520"/>
              <a:ext cx="8356680" cy="60134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66560" y="500040"/>
              <a:ext cx="8212320" cy="585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" name="Group 10"/>
            <p:cNvGrpSpPr/>
            <p:nvPr/>
          </p:nvGrpSpPr>
          <p:grpSpPr>
            <a:xfrm>
              <a:off x="4106880" y="0"/>
              <a:ext cx="900000" cy="534960"/>
              <a:chOff x="4106880" y="0"/>
              <a:chExt cx="900000" cy="534960"/>
            </a:xfrm>
          </p:grpSpPr>
          <p:sp>
            <p:nvSpPr>
              <p:cNvPr id="9" name="Freeform 11"/>
              <p:cNvSpPr/>
              <p:nvPr/>
            </p:nvSpPr>
            <p:spPr>
              <a:xfrm>
                <a:off x="485460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95" y="0"/>
                    </a:moveTo>
                    <a:lnTo>
                      <a:pt x="95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5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470520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5561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440676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4" y="336"/>
                    </a:lnTo>
                    <a:lnTo>
                      <a:pt x="94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4257720" y="0"/>
                <a:ext cx="150840" cy="53496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5" h="337">
                    <a:moveTo>
                      <a:pt x="94" y="0"/>
                    </a:moveTo>
                    <a:lnTo>
                      <a:pt x="94" y="218"/>
                    </a:lnTo>
                    <a:lnTo>
                      <a:pt x="0" y="336"/>
                    </a:lnTo>
                    <a:lnTo>
                      <a:pt x="0" y="0"/>
                    </a:lnTo>
                    <a:lnTo>
                      <a:pt x="94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4106880" y="0"/>
                <a:ext cx="152280" cy="53496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34960"/>
                  <a:gd name="textAreaBottom" fmla="*/ 535320 h 534960"/>
                </a:gdLst>
                <a:ahLst/>
                <a:rect l="textAreaLeft" t="textAreaTop" r="textAreaRight" b="textAreaBottom"/>
                <a:pathLst>
                  <a:path w="96" h="337">
                    <a:moveTo>
                      <a:pt x="0" y="0"/>
                    </a:moveTo>
                    <a:lnTo>
                      <a:pt x="0" y="218"/>
                    </a:lnTo>
                    <a:lnTo>
                      <a:pt x="95" y="336"/>
                    </a:lnTo>
                    <a:lnTo>
                      <a:pt x="95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4106880" y="6345360"/>
              <a:ext cx="900000" cy="522000"/>
              <a:chOff x="4106880" y="6345360"/>
              <a:chExt cx="900000" cy="522000"/>
            </a:xfrm>
          </p:grpSpPr>
          <p:sp>
            <p:nvSpPr>
              <p:cNvPr id="16" name="Freeform 18"/>
              <p:cNvSpPr/>
              <p:nvPr/>
            </p:nvSpPr>
            <p:spPr>
              <a:xfrm>
                <a:off x="485460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95" y="328"/>
                    </a:moveTo>
                    <a:lnTo>
                      <a:pt x="95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5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Freeform 19"/>
              <p:cNvSpPr/>
              <p:nvPr/>
            </p:nvSpPr>
            <p:spPr>
              <a:xfrm>
                <a:off x="470520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Freeform 20"/>
              <p:cNvSpPr/>
              <p:nvPr/>
            </p:nvSpPr>
            <p:spPr>
              <a:xfrm>
                <a:off x="45561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>
                <a:off x="440676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4" y="0"/>
                    </a:lnTo>
                    <a:lnTo>
                      <a:pt x="94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>
                <a:off x="4257720" y="6345360"/>
                <a:ext cx="150840" cy="52200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5" h="329">
                    <a:moveTo>
                      <a:pt x="94" y="328"/>
                    </a:moveTo>
                    <a:lnTo>
                      <a:pt x="94" y="115"/>
                    </a:lnTo>
                    <a:lnTo>
                      <a:pt x="0" y="0"/>
                    </a:lnTo>
                    <a:lnTo>
                      <a:pt x="0" y="328"/>
                    </a:lnTo>
                    <a:lnTo>
                      <a:pt x="94" y="328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Freeform 23"/>
              <p:cNvSpPr/>
              <p:nvPr/>
            </p:nvSpPr>
            <p:spPr>
              <a:xfrm>
                <a:off x="4106880" y="6345360"/>
                <a:ext cx="152280" cy="52200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522000"/>
                  <a:gd name="textAreaBottom" fmla="*/ 522360 h 522000"/>
                </a:gdLst>
                <a:ahLst/>
                <a:rect l="textAreaLeft" t="textAreaTop" r="textAreaRight" b="textAreaBottom"/>
                <a:pathLst>
                  <a:path w="96" h="329">
                    <a:moveTo>
                      <a:pt x="0" y="328"/>
                    </a:moveTo>
                    <a:lnTo>
                      <a:pt x="0" y="115"/>
                    </a:lnTo>
                    <a:lnTo>
                      <a:pt x="95" y="0"/>
                    </a:lnTo>
                    <a:lnTo>
                      <a:pt x="95" y="328"/>
                    </a:lnTo>
                    <a:lnTo>
                      <a:pt x="0" y="328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" name="Group 24"/>
            <p:cNvGrpSpPr/>
            <p:nvPr/>
          </p:nvGrpSpPr>
          <p:grpSpPr>
            <a:xfrm>
              <a:off x="0" y="2913120"/>
              <a:ext cx="496800" cy="1058760"/>
              <a:chOff x="0" y="2913120"/>
              <a:chExt cx="496800" cy="1058760"/>
            </a:xfrm>
          </p:grpSpPr>
          <p:sp>
            <p:nvSpPr>
              <p:cNvPr id="23" name="Freeform 25"/>
              <p:cNvSpPr/>
              <p:nvPr/>
            </p:nvSpPr>
            <p:spPr>
              <a:xfrm>
                <a:off x="0" y="379404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0" y="36180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0" y="344160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0" y="3265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0" y="30891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0" y="2913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9" name="Group 31"/>
            <p:cNvGrpSpPr/>
            <p:nvPr/>
          </p:nvGrpSpPr>
          <p:grpSpPr>
            <a:xfrm>
              <a:off x="8659800" y="2927520"/>
              <a:ext cx="504720" cy="1011240"/>
              <a:chOff x="8659800" y="2927520"/>
              <a:chExt cx="504720" cy="1011240"/>
            </a:xfrm>
          </p:grpSpPr>
          <p:sp>
            <p:nvSpPr>
              <p:cNvPr id="30" name="Freeform 32"/>
              <p:cNvSpPr/>
              <p:nvPr/>
            </p:nvSpPr>
            <p:spPr>
              <a:xfrm>
                <a:off x="8659800" y="37688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8659800" y="3600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8659800" y="34322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8659800" y="3263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" name="Freeform 36"/>
              <p:cNvSpPr/>
              <p:nvPr/>
            </p:nvSpPr>
            <p:spPr>
              <a:xfrm>
                <a:off x="8659800" y="309564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" name="Freeform 37"/>
              <p:cNvSpPr/>
              <p:nvPr/>
            </p:nvSpPr>
            <p:spPr>
              <a:xfrm>
                <a:off x="8659800" y="292752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68580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B00C-FB76-4774-8E6C-4B96B37ABB67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018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9F6A2-9C39-4BF3-9713-0A18C9411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78" name="Rectangle 3"/>
            <p:cNvSpPr/>
            <p:nvPr/>
          </p:nvSpPr>
          <p:spPr>
            <a:xfrm>
              <a:off x="0" y="0"/>
              <a:ext cx="4557600" cy="25909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Rectangle 4"/>
            <p:cNvSpPr/>
            <p:nvPr/>
          </p:nvSpPr>
          <p:spPr>
            <a:xfrm>
              <a:off x="0" y="2590920"/>
              <a:ext cx="4556160" cy="42656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Rectangle 5"/>
            <p:cNvSpPr/>
            <p:nvPr/>
          </p:nvSpPr>
          <p:spPr>
            <a:xfrm>
              <a:off x="4575240" y="0"/>
              <a:ext cx="4557600" cy="25909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Rectangle 6"/>
            <p:cNvSpPr/>
            <p:nvPr/>
          </p:nvSpPr>
          <p:spPr>
            <a:xfrm>
              <a:off x="4575240" y="2590920"/>
              <a:ext cx="4557600" cy="4260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Rectangle 7"/>
            <p:cNvSpPr/>
            <p:nvPr/>
          </p:nvSpPr>
          <p:spPr>
            <a:xfrm>
              <a:off x="304920" y="4495680"/>
              <a:ext cx="8534160" cy="1828800"/>
            </a:xfrm>
            <a:prstGeom prst="rect">
              <a:avLst/>
            </a:prstGeom>
            <a:gradFill rotWithShape="0">
              <a:gsLst>
                <a:gs pos="0">
                  <a:srgbClr val="0099ff"/>
                </a:gs>
                <a:gs pos="50000">
                  <a:srgbClr val="ffffff"/>
                </a:gs>
                <a:gs pos="100000">
                  <a:srgbClr val="0099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Rectangle 8"/>
            <p:cNvSpPr/>
            <p:nvPr/>
          </p:nvSpPr>
          <p:spPr>
            <a:xfrm>
              <a:off x="291960" y="731880"/>
              <a:ext cx="8566200" cy="3794040"/>
            </a:xfrm>
            <a:prstGeom prst="rect">
              <a:avLst/>
            </a:prstGeom>
            <a:noFill/>
            <a:ln w="12600">
              <a:solidFill>
                <a:srgbClr val="00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Rectangle 9"/>
            <p:cNvSpPr/>
            <p:nvPr/>
          </p:nvSpPr>
          <p:spPr>
            <a:xfrm>
              <a:off x="396720" y="825480"/>
              <a:ext cx="8356680" cy="3606840"/>
            </a:xfrm>
            <a:prstGeom prst="rect">
              <a:avLst/>
            </a:prstGeom>
            <a:solidFill>
              <a:srgbClr val="ccecff"/>
            </a:solidFill>
            <a:ln w="12600">
              <a:solidFill>
                <a:srgbClr val="33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Rectangle 10"/>
            <p:cNvSpPr/>
            <p:nvPr/>
          </p:nvSpPr>
          <p:spPr>
            <a:xfrm>
              <a:off x="466560" y="909720"/>
              <a:ext cx="8212320" cy="3433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6" name="Group 11"/>
            <p:cNvGrpSpPr/>
            <p:nvPr/>
          </p:nvGrpSpPr>
          <p:grpSpPr>
            <a:xfrm>
              <a:off x="4105440" y="0"/>
              <a:ext cx="892080" cy="915840"/>
              <a:chOff x="4105440" y="0"/>
              <a:chExt cx="892080" cy="915840"/>
            </a:xfrm>
          </p:grpSpPr>
          <p:sp>
            <p:nvSpPr>
              <p:cNvPr id="87" name="Freeform 12"/>
              <p:cNvSpPr/>
              <p:nvPr/>
            </p:nvSpPr>
            <p:spPr>
              <a:xfrm>
                <a:off x="42577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Freeform 13"/>
              <p:cNvSpPr/>
              <p:nvPr/>
            </p:nvSpPr>
            <p:spPr>
              <a:xfrm>
                <a:off x="41054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Freeform 14"/>
              <p:cNvSpPr/>
              <p:nvPr/>
            </p:nvSpPr>
            <p:spPr>
              <a:xfrm>
                <a:off x="455292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Freeform 15"/>
              <p:cNvSpPr/>
              <p:nvPr/>
            </p:nvSpPr>
            <p:spPr>
              <a:xfrm>
                <a:off x="440064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Freeform 16"/>
              <p:cNvSpPr/>
              <p:nvPr/>
            </p:nvSpPr>
            <p:spPr>
              <a:xfrm>
                <a:off x="4846680" y="0"/>
                <a:ext cx="150840" cy="915840"/>
              </a:xfrm>
              <a:custGeom>
                <a:avLst/>
                <a:gdLst>
                  <a:gd name="textAreaLeft" fmla="*/ 0 w 150840"/>
                  <a:gd name="textAreaRight" fmla="*/ 151200 w 15084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5" h="577">
                    <a:moveTo>
                      <a:pt x="90" y="0"/>
                    </a:moveTo>
                    <a:lnTo>
                      <a:pt x="94" y="458"/>
                    </a:lnTo>
                    <a:lnTo>
                      <a:pt x="0" y="576"/>
                    </a:lnTo>
                    <a:lnTo>
                      <a:pt x="0" y="0"/>
                    </a:lnTo>
                    <a:lnTo>
                      <a:pt x="90" y="0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Freeform 17"/>
              <p:cNvSpPr/>
              <p:nvPr/>
            </p:nvSpPr>
            <p:spPr>
              <a:xfrm>
                <a:off x="4694400" y="0"/>
                <a:ext cx="153720" cy="915840"/>
              </a:xfrm>
              <a:custGeom>
                <a:avLst/>
                <a:gdLst>
                  <a:gd name="textAreaLeft" fmla="*/ 0 w 153720"/>
                  <a:gd name="textAreaRight" fmla="*/ 154080 w 153720"/>
                  <a:gd name="textAreaTop" fmla="*/ 0 h 915840"/>
                  <a:gd name="textAreaBottom" fmla="*/ 916200 h 915840"/>
                </a:gdLst>
                <a:ahLst/>
                <a:rect l="textAreaLeft" t="textAreaTop" r="textAreaRight" b="textAreaBottom"/>
                <a:pathLst>
                  <a:path w="97" h="577">
                    <a:moveTo>
                      <a:pt x="0" y="0"/>
                    </a:moveTo>
                    <a:lnTo>
                      <a:pt x="1" y="458"/>
                    </a:lnTo>
                    <a:lnTo>
                      <a:pt x="96" y="576"/>
                    </a:lnTo>
                    <a:lnTo>
                      <a:pt x="96" y="0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" name="Group 18"/>
            <p:cNvGrpSpPr/>
            <p:nvPr/>
          </p:nvGrpSpPr>
          <p:grpSpPr>
            <a:xfrm>
              <a:off x="0" y="2075040"/>
              <a:ext cx="496800" cy="1058760"/>
              <a:chOff x="0" y="2075040"/>
              <a:chExt cx="496800" cy="1058760"/>
            </a:xfrm>
          </p:grpSpPr>
          <p:sp>
            <p:nvSpPr>
              <p:cNvPr id="94" name="Freeform 19"/>
              <p:cNvSpPr/>
              <p:nvPr/>
            </p:nvSpPr>
            <p:spPr>
              <a:xfrm>
                <a:off x="0" y="29559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Freeform 20"/>
              <p:cNvSpPr/>
              <p:nvPr/>
            </p:nvSpPr>
            <p:spPr>
              <a:xfrm>
                <a:off x="0" y="277956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Freeform 21"/>
              <p:cNvSpPr/>
              <p:nvPr/>
            </p:nvSpPr>
            <p:spPr>
              <a:xfrm>
                <a:off x="0" y="26035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Freeform 22"/>
              <p:cNvSpPr/>
              <p:nvPr/>
            </p:nvSpPr>
            <p:spPr>
              <a:xfrm>
                <a:off x="0" y="242712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Freeform 23"/>
              <p:cNvSpPr/>
              <p:nvPr/>
            </p:nvSpPr>
            <p:spPr>
              <a:xfrm>
                <a:off x="0" y="2251080"/>
                <a:ext cx="496800" cy="17784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840"/>
                  <a:gd name="textAreaBottom" fmla="*/ 177840 h 17784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111"/>
                    </a:moveTo>
                    <a:lnTo>
                      <a:pt x="202" y="111"/>
                    </a:lnTo>
                    <a:lnTo>
                      <a:pt x="312" y="0"/>
                    </a:lnTo>
                    <a:lnTo>
                      <a:pt x="0" y="0"/>
                    </a:lnTo>
                    <a:lnTo>
                      <a:pt x="0" y="111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Freeform 24"/>
              <p:cNvSpPr/>
              <p:nvPr/>
            </p:nvSpPr>
            <p:spPr>
              <a:xfrm>
                <a:off x="0" y="2075040"/>
                <a:ext cx="496800" cy="177480"/>
              </a:xfrm>
              <a:custGeom>
                <a:avLst/>
                <a:gdLst>
                  <a:gd name="textAreaLeft" fmla="*/ 0 w 496800"/>
                  <a:gd name="textAreaRight" fmla="*/ 497160 w 4968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313" h="112">
                    <a:moveTo>
                      <a:pt x="0" y="0"/>
                    </a:moveTo>
                    <a:lnTo>
                      <a:pt x="202" y="0"/>
                    </a:lnTo>
                    <a:lnTo>
                      <a:pt x="312" y="111"/>
                    </a:lnTo>
                    <a:lnTo>
                      <a:pt x="0" y="111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0" name="Group 25"/>
            <p:cNvGrpSpPr/>
            <p:nvPr/>
          </p:nvGrpSpPr>
          <p:grpSpPr>
            <a:xfrm>
              <a:off x="8639280" y="2075040"/>
              <a:ext cx="504720" cy="1011240"/>
              <a:chOff x="8639280" y="2075040"/>
              <a:chExt cx="504720" cy="1011240"/>
            </a:xfrm>
          </p:grpSpPr>
          <p:sp>
            <p:nvSpPr>
              <p:cNvPr id="101" name="Freeform 26"/>
              <p:cNvSpPr/>
              <p:nvPr/>
            </p:nvSpPr>
            <p:spPr>
              <a:xfrm>
                <a:off x="8639280" y="29163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Freeform 27"/>
              <p:cNvSpPr/>
              <p:nvPr/>
            </p:nvSpPr>
            <p:spPr>
              <a:xfrm>
                <a:off x="8639280" y="27478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Freeform 28"/>
              <p:cNvSpPr/>
              <p:nvPr/>
            </p:nvSpPr>
            <p:spPr>
              <a:xfrm>
                <a:off x="8639280" y="25797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Freeform 29"/>
              <p:cNvSpPr/>
              <p:nvPr/>
            </p:nvSpPr>
            <p:spPr>
              <a:xfrm>
                <a:off x="8639280" y="241128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Freeform 30"/>
              <p:cNvSpPr/>
              <p:nvPr/>
            </p:nvSpPr>
            <p:spPr>
              <a:xfrm>
                <a:off x="8639280" y="2243160"/>
                <a:ext cx="504720" cy="169920"/>
              </a:xfrm>
              <a:custGeom>
                <a:avLst/>
                <a:gdLst>
                  <a:gd name="textAreaLeft" fmla="*/ 0 w 504720"/>
                  <a:gd name="textAreaRight" fmla="*/ 504720 w 504720"/>
                  <a:gd name="textAreaTop" fmla="*/ 0 h 169920"/>
                  <a:gd name="textAreaBottom" fmla="*/ 170280 h 169920"/>
                </a:gdLst>
                <a:ahLst/>
                <a:rect l="textAreaLeft" t="textAreaTop" r="textAreaRight" b="textAreaBottom"/>
                <a:pathLst>
                  <a:path w="318" h="107">
                    <a:moveTo>
                      <a:pt x="317" y="106"/>
                    </a:moveTo>
                    <a:lnTo>
                      <a:pt x="111" y="106"/>
                    </a:lnTo>
                    <a:lnTo>
                      <a:pt x="0" y="0"/>
                    </a:lnTo>
                    <a:lnTo>
                      <a:pt x="317" y="0"/>
                    </a:lnTo>
                    <a:lnTo>
                      <a:pt x="317" y="106"/>
                    </a:lnTo>
                  </a:path>
                </a:pathLst>
              </a:custGeom>
              <a:solidFill>
                <a:srgbClr val="00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Freeform 31"/>
              <p:cNvSpPr/>
              <p:nvPr/>
            </p:nvSpPr>
            <p:spPr>
              <a:xfrm>
                <a:off x="8639280" y="2075040"/>
                <a:ext cx="504720" cy="169560"/>
              </a:xfrm>
              <a:custGeom>
                <a:avLst/>
                <a:gdLst/>
                <a:ahLst/>
                <a:rect l="l" t="t" r="r" b="b"/>
                <a:pathLst>
                  <a:path w="318" h="107">
                    <a:moveTo>
                      <a:pt x="317" y="0"/>
                    </a:moveTo>
                    <a:lnTo>
                      <a:pt x="111" y="0"/>
                    </a:lnTo>
                    <a:lnTo>
                      <a:pt x="0" y="106"/>
                    </a:lnTo>
                    <a:lnTo>
                      <a:pt x="317" y="106"/>
                    </a:lnTo>
                    <a:lnTo>
                      <a:pt x="317" y="0"/>
                    </a:lnTo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99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dt" idx="4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30A71-2146-47A6-AA33-04C92828F372}" type="datetime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ftr" idx="5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sldNum" idx="6"/>
          </p:nvPr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5395-F4C2-48D9-99D6-770833AC2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3.wmf"/><Relationship Id="rId1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3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38.wmf"/><Relationship Id="rId1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9.wmf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2.wmf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3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8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1.wmf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36"/>
          <p:cNvSpPr/>
          <p:nvPr/>
        </p:nvSpPr>
        <p:spPr>
          <a:xfrm>
            <a:off x="6553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2D6FC-F835-4650-9027-A1BAB53BEB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hapter 5</a:t>
            </a:r>
            <a:br>
              <a:rPr sz="4400"/>
            </a:br>
            <a:br>
              <a:rPr sz="4400"/>
            </a:br>
            <a:r>
              <a:rPr b="1" i="1" lang="en-US" sz="4000" spc="-1" strike="noStrike">
                <a:solidFill>
                  <a:srgbClr val="000080"/>
                </a:solidFill>
                <a:latin typeface="Times New Roman"/>
              </a:rPr>
              <a:t>The Mathematics of Diversification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Object 12"/>
          <p:cNvGraphicFramePr/>
          <p:nvPr/>
        </p:nvGraphicFramePr>
        <p:xfrm>
          <a:off x="6019920" y="3962520"/>
          <a:ext cx="1668240" cy="22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9" name="Object 1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19920" y="3962520"/>
                    <a:ext cx="1668240" cy="22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16A31-677C-4718-B1AB-2E13192C4FD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ssume the following statistics for Stock A and Stock B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762120" y="3429000"/>
          <a:ext cx="7391160" cy="2835360"/>
        </p:xfrm>
        <a:graphic>
          <a:graphicData uri="http://schemas.openxmlformats.org/drawingml/2006/table">
            <a:tbl>
              <a:tblPr/>
              <a:tblGrid>
                <a:gridCol w="2971800"/>
                <a:gridCol w="1955520"/>
                <a:gridCol w="2463840"/>
              </a:tblGrid>
              <a:tr h="536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ock 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xpected retur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1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Varianc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0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tandard deviation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24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eigh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rrelation coefficien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.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C57BB-FBCA-47EA-856C-334C10087D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expected return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4"/>
          <p:cNvGraphicFramePr/>
          <p:nvPr/>
        </p:nvGraphicFramePr>
        <p:xfrm>
          <a:off x="2209680" y="3505320"/>
          <a:ext cx="4840560" cy="264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09680" y="3505320"/>
                    <a:ext cx="4840560" cy="264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F5587-D906-452E-86EB-C0A834DA38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 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 (cont’d)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variance of this two-security portfolio i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2" name="Object 30"/>
          <p:cNvGraphicFramePr/>
          <p:nvPr/>
        </p:nvGraphicFramePr>
        <p:xfrm>
          <a:off x="533520" y="3809880"/>
          <a:ext cx="8267760" cy="2401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Object 3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809880"/>
                    <a:ext cx="8267760" cy="240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2DEB8-669F-41E9-860D-D8045B04E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Portfolio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minimum variance portfolio is the particular combination of securities that will result in the least possibl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for the minimum variance portfolio requires basic calcul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B3D7D-F190-4305-A026-EC013AE45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minimum variance portfolio, the proportions invested in stocks A and B ar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4"/>
          <p:cNvGraphicFramePr/>
          <p:nvPr/>
        </p:nvGraphicFramePr>
        <p:xfrm>
          <a:off x="2133720" y="3581280"/>
          <a:ext cx="4521240" cy="254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3720" y="3581280"/>
                    <a:ext cx="4521240" cy="254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02044-300B-4844-976B-BD81D1610F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Solution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The weights of the minimum variance portfolios in the previous case ar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5" name="Object 5"/>
          <p:cNvGraphicFramePr/>
          <p:nvPr/>
        </p:nvGraphicFramePr>
        <p:xfrm>
          <a:off x="533520" y="3962520"/>
          <a:ext cx="815328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6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3962520"/>
                    <a:ext cx="815328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9E8E1A-2F2D-4066-8410-256F11B46D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inimum Variance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(cont’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0" name="Object 5"/>
          <p:cNvGraphicFramePr/>
          <p:nvPr/>
        </p:nvGraphicFramePr>
        <p:xfrm>
          <a:off x="1600200" y="2362320"/>
          <a:ext cx="5562720" cy="371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2362320"/>
                    <a:ext cx="5562720" cy="37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2" name="Text Box 6"/>
          <p:cNvSpPr/>
          <p:nvPr/>
        </p:nvSpPr>
        <p:spPr>
          <a:xfrm flipH="1" rot="10800000">
            <a:off x="1069200" y="2895480"/>
            <a:ext cx="546120" cy="243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Weight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3427200" y="5943600"/>
            <a:ext cx="247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Portfolio Vari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Line 9"/>
          <p:cNvSpPr/>
          <p:nvPr/>
        </p:nvSpPr>
        <p:spPr>
          <a:xfrm flipH="1">
            <a:off x="2133720" y="4114800"/>
            <a:ext cx="3200400" cy="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Line 11"/>
          <p:cNvSpPr/>
          <p:nvPr/>
        </p:nvSpPr>
        <p:spPr>
          <a:xfrm>
            <a:off x="5334120" y="4114800"/>
            <a:ext cx="0" cy="1371600"/>
          </a:xfrm>
          <a:prstGeom prst="line">
            <a:avLst/>
          </a:prstGeom>
          <a:ln w="507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914C6-8B3F-4618-932C-46D588E164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rrelation and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isk Re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folio risk decreases as the correlation coefficient in the returns of two securities decre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sk reduction is greatest when the securities are perfectly negatively correl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the securities are perfectly positively correlated, there is no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50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500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2" dur="500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CB85F-50CC-4B9A-BCF4-F68AEB880F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2" name="Object 4"/>
          <p:cNvGraphicFramePr/>
          <p:nvPr/>
        </p:nvGraphicFramePr>
        <p:xfrm>
          <a:off x="1295280" y="3048120"/>
          <a:ext cx="661212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3048120"/>
                    <a:ext cx="661212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500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8BF30-9CEB-43EE-93AE-C8A5B6AB69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he n-Security Case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covariance matri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tabular presentation of the pairwise combinations of all portfolio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quired number of covariances to compute a portfolio variance is (n</a:t>
            </a:r>
            <a:r>
              <a:rPr b="0" lang="en-US" sz="2800" spc="-1" strike="noStrike" baseline="4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n)/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y portfolio construction technique using the full covariance matrix is called a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Markowitz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2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7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5286B-AFD5-4A67-8B53-67C719E120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reason for portfolio theory mathematic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is a good ide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show why diversification makes sense logical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8F742-2C10-449A-8BFA-0A0A18523E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Example of Variance-Covariance Matrix Computation in Excel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pic>
        <p:nvPicPr>
          <p:cNvPr id="239" name="Picture 4" descr=""/>
          <p:cNvPicPr/>
          <p:nvPr/>
        </p:nvPicPr>
        <p:blipFill>
          <a:blip r:embed="rId1"/>
          <a:stretch/>
        </p:blipFill>
        <p:spPr>
          <a:xfrm>
            <a:off x="533520" y="2438280"/>
            <a:ext cx="80769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DAA12-5629-4900-8C3E-77A7B2867D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4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82296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4509-E818-4C9F-AD1F-D98CC52345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Rectangle 64"/>
          <p:cNvSpPr/>
          <p:nvPr/>
        </p:nvSpPr>
        <p:spPr>
          <a:xfrm>
            <a:off x="0" y="-452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12600" y="3687840"/>
          <a:ext cx="596880" cy="517320"/>
        </p:xfrm>
        <a:graphic>
          <a:graphicData uri="http://schemas.openxmlformats.org/drawingml/2006/table">
            <a:tbl>
              <a:tblPr/>
              <a:tblGrid>
                <a:gridCol w="596880"/>
              </a:tblGrid>
              <a:tr h="52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245" name="Picture 258" descr=""/>
          <p:cNvPicPr/>
          <p:nvPr/>
        </p:nvPicPr>
        <p:blipFill>
          <a:blip r:embed="rId1"/>
          <a:stretch/>
        </p:blipFill>
        <p:spPr>
          <a:xfrm>
            <a:off x="609480" y="1219320"/>
            <a:ext cx="8001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DC0D9-2E0F-4023-841E-AFE4019787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Portfolio Mathematic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 as the (vertical) vector of weights on the different asse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thu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rtfolio optimization consists of minimizing this variance subject to the constraint of achieving a given expected retur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9" name="Object 4"/>
          <p:cNvGraphicFramePr/>
          <p:nvPr/>
        </p:nvGraphicFramePr>
        <p:xfrm>
          <a:off x="2286000" y="4114800"/>
          <a:ext cx="1752480" cy="625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4114800"/>
                    <a:ext cx="1752480" cy="625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1" name="Object 5"/>
          <p:cNvGraphicFramePr/>
          <p:nvPr/>
        </p:nvGraphicFramePr>
        <p:xfrm>
          <a:off x="2133720" y="281952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281952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5CEEA-E0B4-42C7-9CCC-D04D025858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Portfolio Variance in the 2-asset case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hav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Object 6"/>
          <p:cNvGraphicFramePr/>
          <p:nvPr/>
        </p:nvGraphicFramePr>
        <p:xfrm>
          <a:off x="838080" y="5029200"/>
          <a:ext cx="4267440" cy="561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7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5029200"/>
                    <a:ext cx="4267440" cy="5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Object 4"/>
          <p:cNvGraphicFramePr/>
          <p:nvPr/>
        </p:nvGraphicFramePr>
        <p:xfrm>
          <a:off x="914400" y="2590920"/>
          <a:ext cx="3733920" cy="811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59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2590920"/>
                    <a:ext cx="3733920" cy="81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0" name="Object 5"/>
          <p:cNvGraphicFramePr/>
          <p:nvPr/>
        </p:nvGraphicFramePr>
        <p:xfrm>
          <a:off x="838080" y="3962520"/>
          <a:ext cx="5486400" cy="10411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1" name="Object 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8080" y="3962520"/>
                    <a:ext cx="5486400" cy="104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Object 8"/>
          <p:cNvGraphicFramePr/>
          <p:nvPr/>
        </p:nvGraphicFramePr>
        <p:xfrm>
          <a:off x="838080" y="5638680"/>
          <a:ext cx="4724640" cy="5320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3" name="Object 8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5638680"/>
                    <a:ext cx="4724640" cy="53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5946B-5A3F-4293-8E26-45B2BD5F42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Covariance Between Two Portfolios (Matrix Form)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w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s the (vertical) vector of weights on the different assets in portfolio P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fine     the (vertical) vector of expected retur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t V be their variance-covariance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between the two portfolios i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67" name="Object 4"/>
          <p:cNvGraphicFramePr/>
          <p:nvPr/>
        </p:nvGraphicFramePr>
        <p:xfrm>
          <a:off x="762120" y="5257800"/>
          <a:ext cx="7924680" cy="73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8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5257800"/>
                    <a:ext cx="7924680" cy="73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9" name="Object 5"/>
          <p:cNvGraphicFramePr/>
          <p:nvPr/>
        </p:nvGraphicFramePr>
        <p:xfrm>
          <a:off x="2133720" y="3657600"/>
          <a:ext cx="407880" cy="441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3720" y="3657600"/>
                    <a:ext cx="407880" cy="44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576A5-61C2-4B90-98EB-4924489684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000080"/>
                </a:solidFill>
                <a:uFillTx/>
                <a:latin typeface="Times New Roman"/>
              </a:rPr>
              <a:t>The Optimization Problem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iz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bject 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E(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is the desired (target) expected return on the portfolio and     is a vector of ones and the vector     is defined as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74" name="Object 4"/>
          <p:cNvGraphicFramePr/>
          <p:nvPr/>
        </p:nvGraphicFramePr>
        <p:xfrm>
          <a:off x="2971800" y="1981080"/>
          <a:ext cx="1035000" cy="466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1981080"/>
                    <a:ext cx="1035000" cy="4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6" name="Object 5"/>
          <p:cNvGraphicFramePr/>
          <p:nvPr/>
        </p:nvGraphicFramePr>
        <p:xfrm>
          <a:off x="1676520" y="2438280"/>
          <a:ext cx="380880" cy="349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7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676520" y="2438280"/>
                    <a:ext cx="380880" cy="349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8" name="Object 6"/>
          <p:cNvGraphicFramePr/>
          <p:nvPr/>
        </p:nvGraphicFramePr>
        <p:xfrm>
          <a:off x="2895480" y="3112920"/>
          <a:ext cx="2140200" cy="1290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9" name="Object 6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895480" y="3112920"/>
                    <a:ext cx="2140200" cy="1290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0" name="Object 7"/>
          <p:cNvGraphicFramePr/>
          <p:nvPr/>
        </p:nvGraphicFramePr>
        <p:xfrm>
          <a:off x="2743200" y="4648320"/>
          <a:ext cx="228600" cy="4572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81" name="Object 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743200" y="4648320"/>
                    <a:ext cx="2286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2" name="Object 8"/>
          <p:cNvGraphicFramePr/>
          <p:nvPr/>
        </p:nvGraphicFramePr>
        <p:xfrm>
          <a:off x="7086600" y="4800600"/>
          <a:ext cx="352440" cy="3808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3" name="Object 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086600" y="4800600"/>
                    <a:ext cx="3524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4" name="Object 9"/>
          <p:cNvGraphicFramePr/>
          <p:nvPr/>
        </p:nvGraphicFramePr>
        <p:xfrm>
          <a:off x="2743200" y="5105520"/>
          <a:ext cx="2133720" cy="1207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285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2743200" y="5105520"/>
                    <a:ext cx="2133720" cy="120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Slide Number Placeholder 7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FAEDC-F9BB-487C-99B8-351F99230D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Lagrangian Method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440" y="1905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O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Thu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9" name="Object 5"/>
          <p:cNvGraphicFramePr/>
          <p:nvPr/>
        </p:nvGraphicFramePr>
        <p:xfrm>
          <a:off x="2057400" y="2743200"/>
          <a:ext cx="5410080" cy="94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0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57400" y="2743200"/>
                    <a:ext cx="5410080" cy="94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1" name="Object 4"/>
          <p:cNvGraphicFramePr/>
          <p:nvPr/>
        </p:nvGraphicFramePr>
        <p:xfrm>
          <a:off x="1523880" y="1752480"/>
          <a:ext cx="5867640" cy="854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523880" y="1752480"/>
                    <a:ext cx="5867640" cy="85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3" name="Object 7"/>
          <p:cNvGraphicFramePr/>
          <p:nvPr/>
        </p:nvGraphicFramePr>
        <p:xfrm>
          <a:off x="914400" y="2362320"/>
          <a:ext cx="304920" cy="279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4" name="Object 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914400" y="23623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5" name="Object 10"/>
          <p:cNvGraphicFramePr/>
          <p:nvPr/>
        </p:nvGraphicFramePr>
        <p:xfrm>
          <a:off x="1447920" y="3429000"/>
          <a:ext cx="304560" cy="279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96" name="Object 1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447920" y="3429000"/>
                    <a:ext cx="30456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7" name="Object 11"/>
          <p:cNvGraphicFramePr/>
          <p:nvPr/>
        </p:nvGraphicFramePr>
        <p:xfrm>
          <a:off x="2438280" y="3809880"/>
          <a:ext cx="5032440" cy="897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98" name="Object 1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438280" y="3809880"/>
                    <a:ext cx="5032440" cy="89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9" name="Object 13"/>
          <p:cNvGraphicFramePr/>
          <p:nvPr/>
        </p:nvGraphicFramePr>
        <p:xfrm>
          <a:off x="1828800" y="4419720"/>
          <a:ext cx="304920" cy="27936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300" name="Object 13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828800" y="4419720"/>
                    <a:ext cx="304920" cy="27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1" name="Object 15"/>
          <p:cNvGraphicFramePr/>
          <p:nvPr/>
        </p:nvGraphicFramePr>
        <p:xfrm>
          <a:off x="741240" y="4714920"/>
          <a:ext cx="5757840" cy="1595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302" name="Object 15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741240" y="4714920"/>
                    <a:ext cx="5757840" cy="15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50708-F600-491F-9E9F-97AD10751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Taking Derivative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05" name="Object 4"/>
          <p:cNvGraphicFramePr/>
          <p:nvPr/>
        </p:nvGraphicFramePr>
        <p:xfrm>
          <a:off x="685800" y="1981080"/>
          <a:ext cx="678168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981080"/>
                    <a:ext cx="678168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F458AA-723A-46A0-9265-3BEDB5F09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08" name="Object 4"/>
          <p:cNvGraphicFramePr/>
          <p:nvPr/>
        </p:nvGraphicFramePr>
        <p:xfrm>
          <a:off x="990720" y="555480"/>
          <a:ext cx="7010280" cy="586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555480"/>
                    <a:ext cx="7010280" cy="586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B0C67-DA32-452B-80C6-7A71211621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arry Markowitz’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efficient portfoli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aximum return for their level of ris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ose portfolios providing the minimum risk for a certain level of retu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" dur="5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" dur="5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1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DC5A65-EA13-42D7-AEE6-2330D1F9F0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/>
          </p:nvPr>
        </p:nvSpPr>
        <p:spPr>
          <a:xfrm>
            <a:off x="685800" y="6854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st equation solves the mean-variance portfolio problem. The equation gives us the optimal weights achieving the lowest portfolio variance given a desired expected portfolio retur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ly, plugging the optimal portfolio weights back into the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ives us the efficient portfolio frontier: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Rectangle 5"/>
          <p:cNvSpPr/>
          <p:nvPr/>
        </p:nvSpPr>
        <p:spPr>
          <a:xfrm>
            <a:off x="0" y="3171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3" name="Object 6"/>
          <p:cNvGraphicFramePr/>
          <p:nvPr/>
        </p:nvGraphicFramePr>
        <p:xfrm>
          <a:off x="6248520" y="3733920"/>
          <a:ext cx="1523880" cy="544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248520" y="3733920"/>
                    <a:ext cx="1523880" cy="54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5" name="Object 7"/>
          <p:cNvGraphicFramePr/>
          <p:nvPr/>
        </p:nvGraphicFramePr>
        <p:xfrm>
          <a:off x="1143000" y="5005440"/>
          <a:ext cx="6172200" cy="10191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6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43000" y="5005440"/>
                    <a:ext cx="6172200" cy="101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Slide Number Placeholder 6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B6A93-E3CE-46F1-BE76-61C49ADCBC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Global Minimum Variance Portfolio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a similar fashion, we can solve for the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global minimum vari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rtfolio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global minimum variance portfolio is the efficient frontier portfolio that displays the absolute minimum varia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0" name="Object 4"/>
          <p:cNvGraphicFramePr/>
          <p:nvPr/>
        </p:nvGraphicFramePr>
        <p:xfrm>
          <a:off x="1143000" y="3124080"/>
          <a:ext cx="6934320" cy="959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3124080"/>
                    <a:ext cx="6934320" cy="9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38C3D-4373-4723-B99B-8998DF322E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80"/>
                </a:solidFill>
                <a:latin typeface="Times New Roman"/>
              </a:rPr>
              <a:t>Another Way to Derive the Mean-Variance Efficient Portfolio </a:t>
            </a:r>
            <a:r>
              <a:rPr b="0" lang="en-US" sz="4000" spc="-1" strike="noStrike" u="sng">
                <a:solidFill>
                  <a:srgbClr val="000080"/>
                </a:solidFill>
                <a:uFillTx/>
                <a:latin typeface="Times New Roman"/>
              </a:rPr>
              <a:t>Frontier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ke use of the following property: if two portfolios lie on the efficient frontier, any linear combination of these portfolios will also lie on the frontier. Therefore, just find two mean-variance efficient portfolios, and compute/plot the mean and standard deviation of various linear combinations of these portfoli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49AE6-DB9D-4902-92D8-30AA4BA52E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6" name="Picture 5" descr=""/>
          <p:cNvPicPr/>
          <p:nvPr/>
        </p:nvPicPr>
        <p:blipFill>
          <a:blip r:embed="rId1"/>
          <a:stretch/>
        </p:blipFill>
        <p:spPr>
          <a:xfrm>
            <a:off x="457200" y="990720"/>
            <a:ext cx="82296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4B118-C489-42CE-ABB5-D5B049B19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Picture 4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2296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8BEA6-4EFA-4F2E-8460-4E5880B3B5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Some Excel Tips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give a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am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n array (i.e., to name a matrix or a vector)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ghlight the array (the numbers defining the matrix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‘Insert’, then ‘Name’, and finally ‘Define’ and type in the desired na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470D2-9A1A-4C14-9764-CDD1312902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compute the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inver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f a matrix previously named (as an example) “V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inverse(V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inverse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4CDF4-0562-49F4-91A6-12E323FDA2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Excel Tips (en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lti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wo matrices named “V” and “W”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ype the following formula:   ‘=mmult(V,W)’  and click ENT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-select the cell where you just entered the formula, and highlight a larger area/array of the size that you predict the product matrix will tak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ss F2, then CTRL + SHIFT + EN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C4652-CB7D-40E2-9AC4-B2D505D50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80"/>
                </a:solidFill>
                <a:latin typeface="Times New Roman"/>
              </a:rPr>
              <a:t>Single-Index Model Computational Advantages</a:t>
            </a:r>
            <a:endParaRPr b="0" lang="en-US" sz="40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ingle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mpares all securities to a single benchma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 alternative to comparing a security to each of the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y observing how two independent securities behave relative to a third value, we learn something about how the securities are likely to behave relative to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3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3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3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624C7-48F7-4DEA-ABBC-2643BBE25E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Computational </a:t>
            </a:r>
            <a:br>
              <a:rPr sz="4400"/>
            </a:b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Advantages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single index drastically reduces the number of computations needed to determine portfolio vari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security’s beta is an exampl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1905120" y="3962520"/>
          <a:ext cx="5003640" cy="2309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962520"/>
                    <a:ext cx="5003640" cy="230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0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CB9FB-77A5-41B2-9A6D-5189EC961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rtfolio’s performance is the result of the performance of its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return realized on a portfolio is a linear combination of the returns on the individual invest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the portfolio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linear combination of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" dur="5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" dur="5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D07F0-8FBC-4DC3-88B3-F29C0FE93A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ta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9" name="Object 4"/>
          <p:cNvGraphicFramePr/>
          <p:nvPr/>
        </p:nvGraphicFramePr>
        <p:xfrm>
          <a:off x="2971800" y="2514600"/>
          <a:ext cx="2171880" cy="117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71800" y="2514600"/>
                    <a:ext cx="2171880" cy="117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1" name="Object 5"/>
          <p:cNvGraphicFramePr/>
          <p:nvPr/>
        </p:nvGraphicFramePr>
        <p:xfrm>
          <a:off x="2819520" y="4419720"/>
          <a:ext cx="2641320" cy="1352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2" name="Object 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4419720"/>
                    <a:ext cx="2641320" cy="135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29D11-EFD5-4484-9A0F-A9FE7718B1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55" name="Object 4"/>
          <p:cNvGraphicFramePr/>
          <p:nvPr/>
        </p:nvGraphicFramePr>
        <p:xfrm>
          <a:off x="762120" y="1295280"/>
          <a:ext cx="6713280" cy="5123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6713280" cy="512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2A9E7-E74D-4901-8B6A-CEE630AD36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Portfolio Statistics With the Single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riance of a portfolio componen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variance of two portfolio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Object 6"/>
          <p:cNvGraphicFramePr/>
          <p:nvPr/>
        </p:nvGraphicFramePr>
        <p:xfrm>
          <a:off x="2895480" y="2666880"/>
          <a:ext cx="3225960" cy="76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895480" y="2666880"/>
                    <a:ext cx="3225960" cy="7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62" name="Object 7"/>
          <p:cNvGraphicFramePr/>
          <p:nvPr/>
        </p:nvGraphicFramePr>
        <p:xfrm>
          <a:off x="3276720" y="4572000"/>
          <a:ext cx="2527200" cy="657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63" name="Object 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572000"/>
                    <a:ext cx="252720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5F6E6-3676-4386-854D-2B34D2D28F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80"/>
                </a:solidFill>
                <a:latin typeface="Times New Roman"/>
              </a:rPr>
              <a:t>Proof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graphicFrame>
        <p:nvGraphicFramePr>
          <p:cNvPr id="366" name="Object 3"/>
          <p:cNvGraphicFramePr/>
          <p:nvPr/>
        </p:nvGraphicFramePr>
        <p:xfrm>
          <a:off x="533520" y="2022480"/>
          <a:ext cx="8076960" cy="3666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022480"/>
                    <a:ext cx="8076960" cy="3666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1533F-AC4D-4749-A82C-DE15E5D79E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multi-index mode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siders independent variables other than the performance of an overall market inde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particular interest ar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dustry eff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ctors associated with a particular line of 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9999ff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 the performance of grocery stores vs. steel companies in a rec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9" dur="indefinite" restart="never" nodeType="tmRoot">
          <p:childTnLst>
            <p:seq>
              <p:cTn id="360" dur="indefinite" nodeType="mainSeq">
                <p:childTnLst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5" dur="500"/>
                                        <p:tgtEl>
                                          <p:spTgt spid="3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0" dur="500"/>
                                        <p:tgtEl>
                                          <p:spTgt spid="3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3" dur="500"/>
                                        <p:tgtEl>
                                          <p:spTgt spid="3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6" dur="500"/>
                                        <p:tgtEl>
                                          <p:spTgt spid="3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24E72-B2DE-4A93-9C1F-AABF4BB19B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Multi-Index Model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general form of a multi-index model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74" name="Object 4"/>
          <p:cNvGraphicFramePr/>
          <p:nvPr/>
        </p:nvGraphicFramePr>
        <p:xfrm>
          <a:off x="1295280" y="2544840"/>
          <a:ext cx="6248520" cy="370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95280" y="2544840"/>
                    <a:ext cx="6248520" cy="370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000CF-64AB-4566-BCD7-106745AB2E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Retur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xpected return of a portfolio is a weighted average of the expected returns of the component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2" name="Object 4"/>
          <p:cNvGraphicFramePr/>
          <p:nvPr/>
        </p:nvGraphicFramePr>
        <p:xfrm>
          <a:off x="1905120" y="3429000"/>
          <a:ext cx="506736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3429000"/>
                    <a:ext cx="506736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5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FAA11-2600-4586-90B0-42ADA26D27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Varianc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wo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nimum variance portfol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lation and risk redu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-security ca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" dur="500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" dur="500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500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0" dur="500"/>
                                        <p:tgtEl>
                                          <p:spTgt spid="1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6EF60-1E6A-4A72-8A8A-615F684591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ing portfolio variance is the essence of understanding the mathematics of diversif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variance of a linear combination of random variables i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o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 weighted average of the component varia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1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" dur="500"/>
                                        <p:tgtEl>
                                          <p:spTgt spid="1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B86E9-9C02-42F4-9114-0DDFBDF86D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Introduction (cont’d)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n n-security portfolio, the portfolio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3" name="Object 4"/>
          <p:cNvGraphicFramePr/>
          <p:nvPr/>
        </p:nvGraphicFramePr>
        <p:xfrm>
          <a:off x="1219320" y="3352680"/>
          <a:ext cx="6611760" cy="230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3352680"/>
                    <a:ext cx="661176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Slide Number Placeholder 5"/>
          <p:cNvSpPr/>
          <p:nvPr/>
        </p:nvSpPr>
        <p:spPr>
          <a:xfrm>
            <a:off x="6553080" y="60181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600F3-D21C-4FCB-B1BF-ECA9BAB46F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80"/>
                </a:solidFill>
                <a:latin typeface="Times New Roman"/>
              </a:rPr>
              <a:t>Two-Security Case</a:t>
            </a:r>
            <a:endParaRPr b="0" lang="en-US" sz="4400" spc="-1" strike="noStrike">
              <a:solidFill>
                <a:srgbClr val="00008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 a two-security portfolio containing Stock A and Stock B, the variance i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8" name="Object 4"/>
          <p:cNvGraphicFramePr/>
          <p:nvPr/>
        </p:nvGraphicFramePr>
        <p:xfrm>
          <a:off x="1066680" y="3581280"/>
          <a:ext cx="6363000" cy="744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9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3581280"/>
                    <a:ext cx="6363000" cy="74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3T19:49:06Z</dcterms:created>
  <dc:creator>Paul</dc:creator>
  <dc:description/>
  <dc:language>en-US</dc:language>
  <cp:lastModifiedBy>Paul Grems Duncan</cp:lastModifiedBy>
  <dcterms:modified xsi:type="dcterms:W3CDTF">2011-03-15T01:48:46Z</dcterms:modified>
  <cp:revision>144</cp:revision>
  <dc:subject/>
  <dc:title>PowerPoint Presentation</dc:title>
</cp:coreProperties>
</file>