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DE5F-523C-45A4-B842-039EEB131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E634-A371-4D49-A2BD-B4FE165BF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2DBD-0C63-4C41-91E9-4E1828B5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2082-1C50-41E9-9605-56DD2005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139-B958-4D9C-B7E2-D748C050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3838-ADE0-407A-9874-5EF3CA8C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1A02-B66A-4B40-A0ED-AE57CF09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FA89-C309-4C09-81B1-78412F53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4C3F-6E95-438D-AB13-8E87CD7B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1278-4879-40AC-A390-06155BEE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83F4-CB96-455B-90F2-86C9130E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334D-A6D9-4E1F-A90F-13BBCBE0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D70A-146C-4E95-9D7D-718937C2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AD77-60C3-4F59-885A-CAAE245B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6859-C5D8-45DB-9BBD-CE1644A6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D505-C706-48E8-A90C-BEF414F7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28B0-0D1C-432B-A2FF-FAC01175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9711-CBCD-4FF8-AEAE-D971D63A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EF9A-EDE8-4B38-B65F-70A28670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A52-7F7E-4E8F-9642-F60BA81D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EDC-FA52-4940-9971-F71A3743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EE6-D3FB-4272-B51F-BC911434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D6E-E6C5-4143-B92A-B82A87DD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50E-34D5-4A65-95A2-1AC8792B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495-A8B2-4920-AB5C-D9B204F4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324-0A71-4A3B-9243-F21C3F34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1C78-CA91-4C58-9100-71A41E9A65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1FB3-6484-4184-A80E-668F5344F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E650-36A9-42D2-AEAF-A0898C958B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6E26-374A-4D8E-959F-5392D1B27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B678-7C69-4445-A378-8C84DA9E4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hapter 5</a:t>
            </a:r>
            <a:br>
              <a:rPr sz="4400"/>
            </a:br>
            <a:br>
              <a:rPr sz="4400"/>
            </a:b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The Mathematics of Divers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6019920" y="3962520"/>
          <a:ext cx="166824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962520"/>
                    <a:ext cx="16682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AB56-EF6A-4473-B48C-EE08D3741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following statistics for Stock A and Stock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2120" y="3429000"/>
          <a:ext cx="7391160" cy="2835360"/>
        </p:xfrm>
        <a:graphic>
          <a:graphicData uri="http://schemas.openxmlformats.org/drawingml/2006/table">
            <a:tbl>
              <a:tblPr/>
              <a:tblGrid>
                <a:gridCol w="2971800"/>
                <a:gridCol w="1955520"/>
                <a:gridCol w="2463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lation co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28A2-BEF5-4388-AEB2-1DD90BC38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expected return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09680" y="3505320"/>
          <a:ext cx="4840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840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15DF-E06D-47C2-A08C-4BBB13D93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(cont’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variance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30"/>
          <p:cNvGraphicFramePr/>
          <p:nvPr/>
        </p:nvGraphicFramePr>
        <p:xfrm>
          <a:off x="533520" y="3809880"/>
          <a:ext cx="82677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677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A5F2-5339-44C7-9813-C0E273289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Portfoli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mum variance portfolio is the particular combination of securities that will result in the least possibl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the minimum variance portfolio requires basic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B5B0-12F2-4F87-AD5A-8F48813D6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minimum variance portfolio, the proportions invested in stocks A and B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133720" y="3581280"/>
          <a:ext cx="45212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45212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FE78-8B78-48B4-8B97-879DB4586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eights of the minimum variance portfolios in the previous cas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533520" y="3962520"/>
          <a:ext cx="815328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153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CC98-4948-479E-8A0C-70BE084E9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1600200" y="2362320"/>
          <a:ext cx="55627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5627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6"/>
          <p:cNvSpPr/>
          <p:nvPr/>
        </p:nvSpPr>
        <p:spPr>
          <a:xfrm flipH="1" rot="10800000">
            <a:off x="1069200" y="289548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427200" y="59436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folio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133720" y="411480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114800"/>
            <a:ext cx="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76DE-A386-4935-8B23-1C012E8C3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rrelation and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isk Re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risk decreases as the correlation coefficient in the returns of two securitie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reduction is greatest when the securities are perfectly negatively 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curities are perfectly positively correlated, there is no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A38C-BF36-44AB-BA90-E8F23866B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95280" y="3048120"/>
          <a:ext cx="66121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6612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68F2-FED2-44F1-8229-8DE3D8E00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abular presentation of the pairwise combinations of all portfoli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d number of covariances to compute a portfolio variance is (n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ortfolio construction technique using the full covariance matrix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kowitz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07BF-5ACA-4118-80B3-C4A656D4E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portfolio theory mathema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is a goo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makes sense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F300-E2B1-410E-8863-B51C939E9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Example of Variance-Covariance Matrix Computation in Exce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6DF8-C988-4FE4-8A32-9221417A0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19B2-0445-408D-B9C8-3DAD7E07F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4"/>
          <p:cNvSpPr/>
          <p:nvPr/>
        </p:nvSpPr>
        <p:spPr>
          <a:xfrm>
            <a:off x="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600" y="3687840"/>
          <a:ext cx="596880" cy="51732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58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34FD-1D07-4D72-BB3E-E9DB09F9D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Portfolio Mathematic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 as the (vertical) vector of weights on the different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 optimization consists of minimizing this variance subject to the constraint of achieving a given expected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286000" y="4114800"/>
          <a:ext cx="175248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14800"/>
                    <a:ext cx="1752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2133720" y="281952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1952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DC60-26F5-49BD-A97A-493C86BDF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Portfolio Variance in the 2-asset cas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838080" y="5029200"/>
          <a:ext cx="42674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029200"/>
                    <a:ext cx="4267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"/>
          <p:cNvGraphicFramePr/>
          <p:nvPr/>
        </p:nvGraphicFramePr>
        <p:xfrm>
          <a:off x="914400" y="2590920"/>
          <a:ext cx="37339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373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838080" y="3962520"/>
          <a:ext cx="548640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54864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838080" y="5638680"/>
          <a:ext cx="472464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47246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0127-E676-4747-9A26-69BFE203D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ovariance Between Two Portfolio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two portfolio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762120" y="5257800"/>
          <a:ext cx="7924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924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2133720" y="365760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5760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EAA7-DE72-49F7-B9D1-C59B03C5F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The Optimization Proble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sired (target) expected return on the portfolio and     is a vector of ones and the vector     is defined a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971800" y="1981080"/>
          <a:ext cx="10350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1035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1676520" y="243828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43828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895480" y="3112920"/>
          <a:ext cx="2140200" cy="12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112920"/>
                    <a:ext cx="2140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743200" y="4648320"/>
          <a:ext cx="22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7086600" y="4800600"/>
          <a:ext cx="352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48006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"/>
          <p:cNvGraphicFramePr/>
          <p:nvPr/>
        </p:nvGraphicFramePr>
        <p:xfrm>
          <a:off x="2743200" y="5105520"/>
          <a:ext cx="213372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05520"/>
                    <a:ext cx="21337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6F32-0A58-401C-8FF4-4D4612678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agrangian Method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2057400" y="2743200"/>
          <a:ext cx="5410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5410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23880" y="1752480"/>
          <a:ext cx="586764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8676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914400" y="2362320"/>
          <a:ext cx="304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1447920" y="3429000"/>
          <a:ext cx="3045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30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2438280" y="3809880"/>
          <a:ext cx="503244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09880"/>
                    <a:ext cx="50324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3"/>
          <p:cNvGraphicFramePr/>
          <p:nvPr/>
        </p:nvGraphicFramePr>
        <p:xfrm>
          <a:off x="1828800" y="4419720"/>
          <a:ext cx="30492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4197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41240" y="4714920"/>
          <a:ext cx="5757840" cy="159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1240" y="4714920"/>
                    <a:ext cx="5757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05AE-3F1A-4B91-B8B9-494CBAB2B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aking Deriva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685800" y="1981080"/>
          <a:ext cx="67816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7B48-3D0A-46F3-96E6-AC7F9D302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990720" y="555480"/>
          <a:ext cx="701028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55480"/>
                    <a:ext cx="701028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2447-BF37-4537-A4FF-917DD030D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Markowitz’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ficient portfol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aximum return for their level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inimum risk for a certain level of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FB8F-1F93-45E6-8167-D65CA3545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equation solves the mean-variance portfolio problem. The equation gives us the optimal weights achieving the lowest portfolio variance given a desired expected portfoli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plugging the optimal portfolio weights back into th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us the efficient portfolio fronti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6"/>
          <p:cNvGraphicFramePr/>
          <p:nvPr/>
        </p:nvGraphicFramePr>
        <p:xfrm>
          <a:off x="6248520" y="3733920"/>
          <a:ext cx="152388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733920"/>
                    <a:ext cx="15238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1143000" y="5005440"/>
          <a:ext cx="617220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05440"/>
                    <a:ext cx="6172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7DDA-C029-4527-A157-75AD98829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Global Minimum Variance Portfoli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imilar fashion, we can solve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obal minimum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tfol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minimum variance portfolio is the efficient frontier portfolio that displays the absolute minimum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143000" y="3124080"/>
          <a:ext cx="69343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934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EB8D-A590-4581-91B6-7794337A3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Another Way to Derive the Mean-Variance Efficient Portfolio </a:t>
            </a: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Frontier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se of the following property: if two portfolios lie on the efficient frontier, any linear combination of these portfolios will also lie on the frontier. Therefore, just find two mean-variance efficient portfolios, and compute/plot the mean and standard deviation of various linear combinations of these portfol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CBED-6C5F-4E2C-BDC3-C50495488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B977-8302-4FFA-87B2-935BB9765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4404-1B63-4917-8EDA-2CA277EBC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me Excel Tip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array (i.e., to name a matrix or a vec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the array (the numbers defining the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‘Insert’, then ‘Name’, and finally ‘Define’ and type in the desired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08AE-D376-4983-8CF4-D1FECD84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matrix previously named (as an example) “V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inverse(V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inverse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7433-1A9D-435E-AA32-76701C2B7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en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atrices named “V” and “W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mult(V,W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product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C230-E946-4649-9098-75AB1F521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ingle-Index Model Computational Advantages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gle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res all securities to a singl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comparing a security to each of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observing how two independent securities behave relative to a third value, we learn something about how the securities are likely to behave relative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79BD-316B-4E95-97E1-702AEE5BF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mputational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dvantage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index drastically reduces the number of computations needed to determine portfolio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urity’s beta is an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1905120" y="3962520"/>
          <a:ext cx="50036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50036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7D22-6305-4DA5-8BC0-4E3DB29DF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folio’s performance is the result of the performance of it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realized on a portfolio is a linear combination of the returns on the individual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ar combination of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1887-90A2-479E-9886-41753BEC5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971800" y="2514600"/>
          <a:ext cx="217188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17188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819520" y="4419720"/>
          <a:ext cx="264132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26413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643A-45F0-4E4B-9A9A-64A073215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762120" y="1295280"/>
          <a:ext cx="671328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1328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CC04-33DC-432F-AECC-E3C1DEDAF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 compon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 of two portfoli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6"/>
          <p:cNvGraphicFramePr/>
          <p:nvPr/>
        </p:nvGraphicFramePr>
        <p:xfrm>
          <a:off x="2895480" y="2666880"/>
          <a:ext cx="32259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225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7"/>
          <p:cNvGraphicFramePr/>
          <p:nvPr/>
        </p:nvGraphicFramePr>
        <p:xfrm>
          <a:off x="3276720" y="4572000"/>
          <a:ext cx="25272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0"/>
                    <a:ext cx="2527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7F09-A210-4929-8541-AC9C019A8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533520" y="2022480"/>
          <a:ext cx="80769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2480"/>
                    <a:ext cx="80769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1EA2-6401-4B15-824F-DF05F55E7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s independent variables other than the performance of an overall market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particular interes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ssociated with a particular line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performance of grocery stores vs. steel companies in a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880F-D01B-4F5A-80AE-F18241810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 of a multi-index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1295280" y="2544840"/>
          <a:ext cx="624852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44840"/>
                    <a:ext cx="624852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9953-1CD4-4339-AB63-EF4498E9F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return of a portfolio is a weighted average of the expected returns of the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905120" y="3429000"/>
          <a:ext cx="50673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067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6F83-67AA-4C11-B81C-2E28123C1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variance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and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DA65-FDCB-46C4-9A46-DB82705F1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portfolio variance is the essence of understanding the mathematics of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a linear combination of random variable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eighted average of the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9A82-D764-4B95-9F9A-06FBE9776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portfolio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3352680"/>
          <a:ext cx="66117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117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0FE5-05EE-4410-AD58-67E78CEE4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portfolio containing Stock A and Stock B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66680" y="3581280"/>
          <a:ext cx="63630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6363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9:49:06Z</dcterms:created>
  <dc:creator>Paul</dc:creator>
  <dc:description/>
  <dc:language>en-US</dc:language>
  <cp:lastModifiedBy>Paul Grems Duncan</cp:lastModifiedBy>
  <dcterms:modified xsi:type="dcterms:W3CDTF">2011-03-15T01:48:46Z</dcterms:modified>
  <cp:revision>144</cp:revision>
  <dc:subject/>
  <dc:title>PowerPoint Presentation</dc:title>
</cp:coreProperties>
</file>